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6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50.jpeg" ContentType="image/jpeg"/>
  <Override PartName="/ppt/media/image22.png" ContentType="image/png"/>
  <Override PartName="/ppt/media/image24.jpeg" ContentType="image/jpeg"/>
  <Override PartName="/ppt/media/image21.png" ContentType="image/pn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49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31.png" ContentType="image/png"/>
  <Override PartName="/ppt/media/image3.jpeg" ContentType="image/jpeg"/>
  <Override PartName="/ppt/media/image37.jpeg" ContentType="image/jpeg"/>
  <Override PartName="/ppt/media/image2.jpeg" ContentType="image/jpeg"/>
  <Override PartName="/ppt/media/image20.png" ContentType="image/png"/>
  <Override PartName="/ppt/media/image36.jpeg" ContentType="image/jpeg"/>
  <Override PartName="/ppt/media/image4.jpeg" ContentType="image/jpeg"/>
  <Override PartName="/ppt/media/image40.png" ContentType="image/png"/>
  <Override PartName="/ppt/media/image26.jpeg" ContentType="image/jpeg"/>
  <Override PartName="/ppt/media/image5.jpeg" ContentType="image/jpeg"/>
  <Override PartName="/ppt/media/image6.png" ContentType="image/png"/>
  <Override PartName="/ppt/media/image28.jpeg" ContentType="image/jpeg"/>
  <Override PartName="/ppt/media/image51.jpeg" ContentType="image/jpeg"/>
  <Override PartName="/ppt/media/image35.jpeg" ContentType="image/jpeg"/>
  <Override PartName="/ppt/media/image10.jpeg" ContentType="image/jpeg"/>
  <Override PartName="/ppt/media/image44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57.jpeg" ContentType="image/jpeg"/>
  <Override PartName="/ppt/media/image43.png" ContentType="image/png"/>
  <Override PartName="/ppt/media/image53.jpeg" ContentType="image/jpeg"/>
  <Override PartName="/ppt/media/image47.jpeg" ContentType="image/jpeg"/>
  <Override PartName="/ppt/media/image48.jpeg" ContentType="image/jpeg"/>
  <Override PartName="/ppt/media/image54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56.jpeg" ContentType="image/jpeg"/>
  <Override PartName="/ppt/media/image58.jpeg" ContentType="image/jpeg"/>
  <Override PartName="/ppt/media/image33.jpeg" ContentType="image/jpeg"/>
  <Override PartName="/ppt/media/image32.png" ContentType="image/png"/>
  <Override PartName="/ppt/media/image30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23.png" ContentType="image/png"/>
  <Override PartName="/ppt/media/image55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2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64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93.xml.rels" ContentType="application/vnd.openxmlformats-package.relationships+xml"/>
  <Override PartName="/ppt/slides/_rels/slide75.xml.rels" ContentType="application/vnd.openxmlformats-package.relationships+xml"/>
  <Override PartName="/ppt/slides/_rels/slide10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85.xml" ContentType="application/vnd.openxmlformats-officedocument.presentationml.slide+xml"/>
  <Override PartName="/ppt/slides/slide89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dt" idx="6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ašinski materijali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ftr" idx="7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 type="sldNum" idx="8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99DB2ED-5529-4395-AC6A-D7BB495E09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8889A10-D4AF-4331-AA1A-00BCF92A992B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D9414B1-7287-4822-BA79-877BF80A88C1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1360163-5103-41F2-896E-46F79559D759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A10BD1E-D5EB-4B98-B7BE-959825E288F8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4448371-2DEB-4C33-BFE5-58C270278901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3910D8D-A44E-47A1-A086-A7534ED80DFF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53B6006-49BF-47ED-87F5-9336DABEBA17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14CB52A-DB29-44F3-8720-D6FB47A00024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13E76F5-E1DC-4FA1-9841-D22B24477C1F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DCDCE09-61A5-4E4A-BB2B-CA2127C548E5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92CC0CC-4984-42A0-98E8-E9B6EFB7037A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37F49CB-B951-40F9-A315-DC41BFAA51B1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B379A26-CE9C-4343-A00A-B6FF0A78DB35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1CE7F3C-0253-4AC4-96AD-C621313BACD8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58E6CBD-C33B-4E2F-BED1-17C66B641A45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83A68DA-D628-47D0-A4D4-B2DAEA65AA68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2DBBDC3-018D-4A0A-AED7-2A098791B986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FB204B1-506E-4011-95A1-882FD6CE3EE2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2E0698E-DCCB-450A-ADE4-63692A4C2710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B22E359-DF90-4D11-8CA2-CB6CA80D4465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7D8090C-6C05-4DA8-BBF2-1F8EB2139852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CF84C6B-D361-46BD-A6D6-9E3EF25D01C1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A51991E-ABE6-45EE-ABCD-DAB012932178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8660C47-5253-4826-8605-FFDC8496A983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09BCC6D-6605-42F9-B0BD-C478BF46F153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B521D34-69B1-4863-A808-051CB4537DE3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4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BC83207-4E6E-4D8F-93D8-8A14E22FD80C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415B6E1-FB0A-4004-BB5C-B31EB9FC0E16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141D4CC-0D42-47D8-B920-699908A47671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5295DA8-FC73-483C-AC8D-CC25C7683139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09BF796-11E0-43B1-9DCD-F02C44270DB0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4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726EA6D-D228-4EC5-8D00-9022EEBE2B38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9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28D780B-CF30-4008-8841-49C5DEC72CA4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4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236A0DC-7291-4595-AF6D-58DC562D4780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EB16830-D10D-4E85-A9C6-4DD828C260DD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4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12A40F6-CA8C-4D17-A2C5-5E6980DDA701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9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628FE1C-CC08-4792-8C9D-A788926E6624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A7D0A55-3FCA-4702-8C7E-92EEC3EF281D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F818EAC-D6C5-4CB2-9D0D-5CF5BBD8D2BC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9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F15C386-D533-4EE6-97EC-C14A0592FC69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4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01ADEC7-4063-48AF-8620-F0B3873043EB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9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68DDA13-ADF3-4E64-B5A0-98132D66DFEC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4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4DE945D-4215-41C5-942E-5DC234974675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9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C4DE47C-1347-41C6-8D97-5E91E864ADF6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34A3971-81CA-4881-B03D-A7D261799E8D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9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320EB11-E8E6-4DBF-815B-B4BDC01D3B59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83AEE4E-F6CB-493A-8E14-497915934E76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9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266C571-7FC1-44C1-B167-BF9AD880DE5F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4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1768E5C-AA71-43A5-81C4-8F1F6E07FEDC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1BCD7D3-00BF-4EDE-AF3E-FF3C98FDA111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9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EF50853-6F3F-4D0A-8635-548AA8175536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4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36856D7-DA67-490F-95D2-F54B78425D57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9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2700B90-39ED-4294-9D52-8B83187A18F3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6670E2F-DB87-4AFE-BFC6-12BFF934329E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6BEDC38-2FAA-4D28-92D5-5493C1B86446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3E5E43C-C9FF-40E7-93C8-024E795D6893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63C5D-C742-45A0-A635-4C2DBDCC66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11FE4-A0C0-4959-BE06-0C24BA455A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CE7B8-DA09-4B81-8236-EFA8A8A327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A49FE-A707-424A-8240-1BFA419E32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3A33A0-99D9-4AF0-9DB2-7E35AD023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6EAE55-1233-4B78-9818-1533BDD51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DF55FE-928C-475A-AC0B-CB85C6E3E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E173FE-A38E-4620-B3D9-C11C2E652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AC9924-4A7D-4624-801E-F7DCA6EB7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78881F-6502-4A37-9BC7-98CEB8079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9F795E-678F-4F01-A5DE-81F4A683A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74547-811F-4E63-97B3-93C9C2B3E7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ED79B3-7FCB-4FB1-BBB9-B81F727E0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FFC572-5A5F-499A-863B-97E97309E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2EDB19-07E4-48FA-9669-AD266E3CD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4FAB9C-C367-4449-A37B-EAE5B02D9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9B17C5-81FF-4D15-87D1-55CD479D5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9DEDF-29AC-43B8-9482-A9DDB11D3F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4580D-78B9-45F9-96D5-51FDAB485B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8EF01-0C61-497E-BC18-B026E4DE86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3F62B-72DE-4DA4-A21A-AFA328C10C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E5CDF-5DA1-4B1F-955D-A5525E4206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E5E41-BAFC-4A64-A24E-C26938AB16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492AA-F36C-46BD-AA94-CCAB92D6EA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ftr" idx="1"/>
          </p:nvPr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99cc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sldNum" idx="2"/>
          </p:nvPr>
        </p:nvSpPr>
        <p:spPr>
          <a:xfrm>
            <a:off x="820080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99cc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4D46F-C6F9-4598-A4B6-14749D4B9FF2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4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5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7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0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1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3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4301C-AFBB-4629-ABF7-6418105E769B}" type="datetime">
              <a:rPr b="0" lang="en-US" sz="1000" spc="-1" strike="noStrike">
                <a:solidFill>
                  <a:srgbClr val="ffffff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4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5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100EC-D4DA-48D0-A380-454500FA39F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1.png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F7CD5-F015-4B7D-B30E-8808AEEF59F6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108000" y="549360"/>
            <a:ext cx="424800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ffff00"/>
                </a:solidFill>
                <a:latin typeface="Comic Sans MS"/>
              </a:rPr>
              <a:t>Инфективне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ffff00"/>
                </a:solidFill>
                <a:latin typeface="Comic Sans MS"/>
              </a:rPr>
              <a:t>болест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i="1" lang="sr-Latn-CS" sz="2400" spc="-1" strike="noStrike">
                <a:solidFill>
                  <a:srgbClr val="ffff00"/>
                </a:solidFill>
                <a:latin typeface="Comic Sans MS"/>
              </a:rPr>
              <a:t>Предавање 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Comic Sans MS"/>
              </a:rPr>
              <a:t>Маларија/Malari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11" descr="eigencyclus"/>
          <p:cNvPicPr/>
          <p:nvPr/>
        </p:nvPicPr>
        <p:blipFill>
          <a:blip r:embed="rId1"/>
          <a:stretch/>
        </p:blipFill>
        <p:spPr>
          <a:xfrm>
            <a:off x="4356000" y="333360"/>
            <a:ext cx="4692600" cy="61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A65FE-F335-4FD2-9E8D-A9F1C6E56927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1387440" y="764280"/>
            <a:ext cx="276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68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ahoma"/>
              </a:rPr>
              <a:t>Епидем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900000" y="1916280"/>
            <a:ext cx="8244000" cy="49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То је најважнија паразитоза људ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распрострањена у 103 земље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од</a:t>
            </a:r>
            <a:br>
              <a:rPr sz="1800"/>
            </a:b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   које годишње оболева око милијарду људи, а умире више од 2 милион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3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У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рбији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нема аутохтоних случајева маларије (последњи случај </a:t>
            </a:r>
            <a:br>
              <a:rPr sz="1800"/>
            </a:b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1964. године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Југославија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), али се јављају импортовани случајеви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За настанак и одржавање маларије неопходна су три фактора: </a:t>
            </a:r>
            <a:br>
              <a:rPr sz="1800"/>
            </a:b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паразит, преносилац и човек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Поред тога, неопходни су и други фактори: атмосферски, климатски,</a:t>
            </a:r>
            <a:br>
              <a:rPr sz="1800"/>
            </a:b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теренски, ..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Маларија је најраспрострањенија у тропским и суптропским крајевима</a:t>
            </a:r>
            <a:br>
              <a:rPr sz="1800"/>
            </a:b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где има ендемско-епидемијски карактер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1F5A9-F6CB-4390-882C-51B663F1F95F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Text Box 2"/>
          <p:cNvSpPr/>
          <p:nvPr/>
        </p:nvSpPr>
        <p:spPr>
          <a:xfrm>
            <a:off x="1116000" y="1197000"/>
            <a:ext cx="7777080" cy="46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Клиничка сли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4600" indent="-1746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4600" indent="-174600">
              <a:lnSpc>
                <a:spcPct val="14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Инкубација најчешће износи 2 до 3 недељ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4600" indent="-1746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4600" indent="-1746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ffff00"/>
                </a:solidFill>
                <a:latin typeface="Tahoma"/>
              </a:rPr>
              <a:t>Општи симптоми инфекциј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4600" indent="-1746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4600" indent="-174600">
              <a:lnSpc>
                <a:spcPct val="14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болест почиње нагло са оптим симптомима инфекције: повишеном температуром, јаком главобољом, ретробулбарним болом, мијалгијам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4600" indent="-174600">
              <a:lnSpc>
                <a:spcPct val="14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главобоља може бити праћена фотофобијом, менингизмом и сомноленцијом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4600" indent="-174600">
              <a:lnSpc>
                <a:spcPct val="14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код четвртине болесника могу се јавити повраћање и проли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4180B-D4EC-4AC2-B019-E9CC50B2402F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Text Box 2"/>
          <p:cNvSpPr/>
          <p:nvPr/>
        </p:nvSpPr>
        <p:spPr>
          <a:xfrm>
            <a:off x="1116000" y="476280"/>
            <a:ext cx="7559640" cy="29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ffff00"/>
                </a:solidFill>
                <a:latin typeface="Tahoma"/>
              </a:rPr>
              <a:t>Пнеумониј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10000"/>
              </a:lnSpc>
              <a:spcAft>
                <a:spcPts val="1125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код половине болесника са Q-грозницом уз опште симптоме инфекције јавља се атипична пнеумониј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10000"/>
              </a:lnSpc>
              <a:spcAft>
                <a:spcPts val="1125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крајем прве недеље болести појављује се сув, надражајни кашаљ, праћен диспнејом и пробадима у пределу грудног  коша; физикални налаз на плућим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је најчешће оскудан, а радиографски се откривају интерстицијски инфилтрати у плућим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3" name="Picture 3" descr="InfQThA46_7"/>
          <p:cNvPicPr/>
          <p:nvPr/>
        </p:nvPicPr>
        <p:blipFill>
          <a:blip r:embed="rId1"/>
          <a:stretch/>
        </p:blipFill>
        <p:spPr>
          <a:xfrm>
            <a:off x="1835280" y="3213000"/>
            <a:ext cx="5715000" cy="330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A0F88-A367-424B-8FBB-21920B0E81F5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Text Box 2"/>
          <p:cNvSpPr/>
          <p:nvPr/>
        </p:nvSpPr>
        <p:spPr>
          <a:xfrm>
            <a:off x="1187280" y="620640"/>
            <a:ext cx="705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ffff00"/>
                </a:solidFill>
                <a:latin typeface="Tahoma"/>
              </a:rPr>
              <a:t>Остали клинички облици Q-грозниц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4600" indent="-174600"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болест се може манифестовати  и другим клиничким манифестацијам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6" name="Picture 3" descr="Tabela Q"/>
          <p:cNvPicPr/>
          <p:nvPr/>
        </p:nvPicPr>
        <p:blipFill>
          <a:blip r:embed="rId1"/>
          <a:stretch/>
        </p:blipFill>
        <p:spPr>
          <a:xfrm>
            <a:off x="1476360" y="2060640"/>
            <a:ext cx="7056360" cy="413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352BA-A8C3-4AD6-874F-5C88F59BA0F8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Text Box 2"/>
          <p:cNvSpPr/>
          <p:nvPr/>
        </p:nvSpPr>
        <p:spPr>
          <a:xfrm>
            <a:off x="1116000" y="1125360"/>
            <a:ext cx="770580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Дијагноз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5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клиничка слика (неспецифична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5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епидемиолошки подаци (контакт са домаћим животињама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5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крвна слика (неспецифична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Егзактна дијагноз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5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изолација узрочника из крви, спутума, мокраће, ликвора и плеуралног излив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5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серолошке реакције (RVK, IIF, ELISA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A375C-2E91-442F-BF09-806B8898553F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Text Box 2"/>
          <p:cNvSpPr/>
          <p:nvPr/>
        </p:nvSpPr>
        <p:spPr>
          <a:xfrm>
            <a:off x="1258920" y="1341360"/>
            <a:ext cx="7632720" cy="19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Терапиј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7280" indent="-287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7280" indent="-287280">
              <a:lnSpc>
                <a:spcPct val="120000"/>
              </a:lnSpc>
              <a:spcBef>
                <a:spcPts val="1576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Tahoma"/>
              </a:rPr>
              <a:t>антибиотерапија</a:t>
            </a:r>
            <a:r>
              <a:rPr b="1" i="1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(тетрациклини, макролиди, хлорамфеникол, кинолони),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10-14 да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7280" indent="-287280">
              <a:lnSpc>
                <a:spcPct val="120000"/>
              </a:lnSpc>
              <a:spcBef>
                <a:spcPts val="1125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Tahoma"/>
              </a:rPr>
              <a:t>симптоматска терапиј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58ECF-5229-4204-B28E-EF80F69A4ED4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Text Box 2"/>
          <p:cNvSpPr/>
          <p:nvPr/>
        </p:nvSpPr>
        <p:spPr>
          <a:xfrm>
            <a:off x="3132000" y="2781360"/>
            <a:ext cx="41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Comic Sans MS"/>
              </a:rPr>
              <a:t>Хвала на па</a:t>
            </a:r>
            <a:r>
              <a:rPr b="0" i="1" lang="sr-Latn-CS" sz="3600" spc="-1" strike="noStrike">
                <a:solidFill>
                  <a:srgbClr val="ffff00"/>
                </a:solidFill>
                <a:latin typeface="Comic Sans MS"/>
              </a:rPr>
              <a:t>жњ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265E5-9AC7-4585-B1EC-C1F2A8791AE4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Picture 6" descr="malaria_risk_2003"/>
          <p:cNvPicPr/>
          <p:nvPr/>
        </p:nvPicPr>
        <p:blipFill>
          <a:blip r:embed="rId1"/>
          <a:stretch/>
        </p:blipFill>
        <p:spPr>
          <a:xfrm>
            <a:off x="539640" y="1125360"/>
            <a:ext cx="8280360" cy="51120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7"/>
          <p:cNvSpPr/>
          <p:nvPr/>
        </p:nvSpPr>
        <p:spPr>
          <a:xfrm>
            <a:off x="858240" y="404640"/>
            <a:ext cx="41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00"/>
                </a:solidFill>
                <a:latin typeface="Tahoma"/>
              </a:rPr>
              <a:t>Географска дистрибуција малариј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C714C-D054-4341-AFB1-F7C15DAC12B7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Picture 8" descr="picendem"/>
          <p:cNvPicPr/>
          <p:nvPr/>
        </p:nvPicPr>
        <p:blipFill>
          <a:blip r:embed="rId1"/>
          <a:stretch/>
        </p:blipFill>
        <p:spPr>
          <a:xfrm>
            <a:off x="2916360" y="907920"/>
            <a:ext cx="5209920" cy="532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830EF-FD2F-42D3-89C7-E3284AF82E0E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1403280" y="764280"/>
            <a:ext cx="22287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86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ahoma"/>
              </a:rPr>
              <a:t>Патогенез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971640" y="1844640"/>
            <a:ext cx="8064360" cy="44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buClr>
                <a:srgbClr val="66cc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Патогенеза болести поклапа се са асексуалним циклусом развоја</a:t>
            </a:r>
            <a:br>
              <a:rPr sz="1800"/>
            </a:b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паразита у човек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40000"/>
              </a:lnSpc>
              <a:spcBef>
                <a:spcPts val="1125"/>
              </a:spcBef>
              <a:buClr>
                <a:srgbClr val="66cc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Основни патогенетски механизми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4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Хемолиза еритроцита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4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Токсично оштећење различитих ткива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4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Ослобађање цитокина (TNF-</a:t>
            </a:r>
            <a:r>
              <a:rPr b="0" lang="sr-Latn-CS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 INF-</a:t>
            </a:r>
            <a:r>
              <a:rPr b="0" lang="sr-Latn-CS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 ...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4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Цитоадхеренција и феномен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“розета”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4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икроваскуларне (капиларне) оклузије у различитим органим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A0929-D2FB-4EA7-BF46-ACB5FE640CCA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1332000" y="54936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ahoma"/>
              </a:rPr>
              <a:t>Клиничка с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1692360" y="2060640"/>
            <a:ext cx="6048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Инкубација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10-12 дана (8-23 дана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210000"/>
              </a:lnSpc>
              <a:buClr>
                <a:srgbClr val="ffff00"/>
              </a:buClr>
              <a:buFont typeface="Tahoma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Стадијум примарних маларичних напад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210000"/>
              </a:lnSpc>
              <a:buClr>
                <a:srgbClr val="ffff00"/>
              </a:buClr>
              <a:buFont typeface="Tahoma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Стадијум латенциј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210000"/>
              </a:lnSpc>
              <a:buClr>
                <a:srgbClr val="ffff00"/>
              </a:buClr>
              <a:buFont typeface="Tahoma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Стадијум рециди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8BA42-1C45-4FBB-8EB3-A9433CAF4EB8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1258920" y="476280"/>
            <a:ext cx="62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00"/>
                </a:solidFill>
                <a:latin typeface="Tahoma"/>
              </a:rPr>
              <a:t>I СТАДИЈУМ ПРИМАРНИХ МАЛАРИЧНИХ НАПАД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900000" y="981000"/>
            <a:ext cx="8244000" cy="58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30000"/>
              </a:lnSpc>
              <a:spcBef>
                <a:spcPts val="67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i="1" lang="en-GB" sz="1800" spc="-1" strike="noStrike">
                <a:solidFill>
                  <a:srgbClr val="ffffff"/>
                </a:solidFill>
                <a:latin typeface="Tahoma"/>
              </a:rPr>
              <a:t>нвазивни стадијум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: температура до 40ºC, главобоља, малаксалост, болови у мишићима, ..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30000"/>
              </a:lnSpc>
              <a:spcBef>
                <a:spcPts val="67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Маларични напади пролазе кроз три стадијума: 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стадијум дрхтавице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стадијум хиперпирексије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стадијум презнојавања</a:t>
            </a:r>
            <a:r>
              <a:rPr b="0" lang="sr-Latn-CS" sz="1800" spc="-1" strike="noStrike">
                <a:solidFill>
                  <a:srgbClr val="ffff00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30000"/>
              </a:lnSpc>
              <a:spcBef>
                <a:spcPts val="67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М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аларични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напади трају 5-10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сати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30000"/>
              </a:lnSpc>
              <a:spcBef>
                <a:spcPts val="67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Код маларије терцијане и овале маларични напади се понављају сваких 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48 часова, код маларије квартане на свака 72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сата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, код маларије тропике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сваких 24-48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сати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30000"/>
              </a:lnSpc>
              <a:spcBef>
                <a:spcPts val="67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Код нелечене маларије терцијане и овале маларични напади се понављају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током 2-4 недеље, код маларије квартане током 1-2 месеца, а затим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спонтано престају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30000"/>
              </a:lnSpc>
              <a:spcBef>
                <a:spcPts val="67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Са сваким новим мал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аричним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нападом анемија прогредира, слезина се 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све више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увећава, болесници се све више исцрпљуј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60F32-4D61-4CD2-95B6-57D280B1F73D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900000" y="620640"/>
            <a:ext cx="8244000" cy="61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У клиничко-лабораторијске знаке тешке маларије убрајају се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Висока паразитемија (&gt;5% инфицираних еритроцита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Хиперпирексија (телесна температура &gt; 40°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Знаци афекције нервног система (“церебрална маларија”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Анемија (хематокрит &lt; 20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П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ремећај гликорегулације (хипогликемија &lt; 2,2 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mmol/l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Спонтана крварењ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Ацидоза (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pH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&lt; 7,25; бикарбонати &lt; 15 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mmol/l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Бубрежна инсуфицијенција (креатинин &gt; 265 </a:t>
            </a:r>
            <a:r>
              <a:rPr b="0" i="1" lang="sr-Latn-C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mol/l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;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диуреза &lt; 400 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ml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Хипербилирубинемија (билирубин &gt; 50 </a:t>
            </a:r>
            <a:r>
              <a:rPr b="0" i="1" lang="sr-Latn-C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mol/l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Кардиоваскуларни колапс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Инфекције плућа и/или плућни едем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Пролив и/или повраћање (што отежава оралну примену лекова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F1796-829C-4283-8C56-656E1B9FF188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1548360" y="836640"/>
            <a:ext cx="264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00"/>
                </a:solidFill>
                <a:latin typeface="Tahoma"/>
              </a:rPr>
              <a:t>II ПЕРИОД ЛАТЕНЦИЈ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971640" y="2060640"/>
            <a:ext cx="8172360" cy="46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50000"/>
              </a:lnSpc>
              <a:spcBef>
                <a:spcPts val="1576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Код лечених болесника настаје услед уништења еритроцитне фазе у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развоју паразита, а код нелечених због развоја делимичног имунитет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50000"/>
              </a:lnSpc>
              <a:spcBef>
                <a:spcPts val="1576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У овом периоду нема субјективних тегоба, у објективном налазу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доминира спленомегалиј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50000"/>
              </a:lnSpc>
              <a:spcBef>
                <a:spcPts val="1576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Период латенције код маларије тропике је кратак (1-6 недеља), док код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м. терцијане и м. овале може да траје више недеља до више месец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E2AFE-E3DA-4EA2-A584-368C1002E41D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1551240" y="836640"/>
            <a:ext cx="29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00"/>
                </a:solidFill>
                <a:latin typeface="Tahoma"/>
              </a:rPr>
              <a:t>III СТАДИЈУМ РЕЦИДИВ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900000" y="1916280"/>
            <a:ext cx="8136000" cy="44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3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Рецидиви могу бити рани и касни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3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Рани рецидиви могу да се јаве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код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свих облика маларије; касни рецидиви, такође код свих осим м. тропике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3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Рецидиви се клинички презентују типичним маларичним нападима, који се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периодично понављају у одре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ђ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еном временском интервалу; једина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разлика је што временом маларични напади у рецидиву постају блажи, а период између појединих рецидива све већи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3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Код м. терцијане, м. квартане и м. овале рецидиви настају због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егзоеритроцитне фазе у развоју паразита, а код м. тропике због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одржавања еритроцитне фаз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CC9E6-51FD-4FDA-A20E-7CFB6D6C1080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1299960" y="765000"/>
            <a:ext cx="418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ahoma"/>
              </a:rPr>
              <a:t>К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омпликације малариј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1403280" y="2133720"/>
            <a:ext cx="4824360" cy="19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3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Руптура слезине или торзиј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23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Побачај или превремени порођај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23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Црномокраћна грозниц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718D3-31F3-4901-8547-A661C864CD76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1042920" y="1989000"/>
            <a:ext cx="7632720" cy="30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Људски род </a:t>
            </a:r>
            <a:r>
              <a:rPr b="1" i="1" lang="sr-Latn-CS" sz="2800" spc="-1" strike="noStrike">
                <a:solidFill>
                  <a:srgbClr val="ffff00"/>
                </a:solidFill>
                <a:latin typeface="Times New Roman"/>
              </a:rPr>
              <a:t>има три велика непријатеља: грозницу, глад и рат; убедљиво највећа, убедљиво најстрашнија од њих је грозница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ff00"/>
                </a:solidFill>
                <a:latin typeface="Times New Roman"/>
              </a:rPr>
              <a:t>William Osl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4F045-D145-4D35-A250-3F20EFFA4A6B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403280" y="6922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ahoma"/>
              </a:rPr>
              <a:t>Дијагн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1403280" y="2133720"/>
            <a:ext cx="698508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Кл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иничка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слика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3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Епидемиолошки подаци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3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Лаборатор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ијске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анализе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3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убрзана SE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3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нормоцитна, нормохромна анемиј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3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нормалан број леукоцита (ретко леукоцитоза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3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тромбоцитопениј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3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лако повишена активност трансаминаз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4AFE1-E38C-4BDC-B62A-2312B6F7D034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1187280" y="836640"/>
            <a:ext cx="7345440" cy="49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Егзактна дијагноза</a:t>
            </a:r>
            <a:r>
              <a:rPr b="0" lang="sr-Latn-CS" sz="1800" spc="-1" strike="noStrike">
                <a:solidFill>
                  <a:srgbClr val="ffff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9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дентификациј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плазмодијума у крви 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(размаз или густа кап)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9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Детекција паразитног антигена (флуоресцентна микроскопија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9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Серолошке анализе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9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PCR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Picture 5" descr="malaria82"/>
          <p:cNvPicPr/>
          <p:nvPr/>
        </p:nvPicPr>
        <p:blipFill>
          <a:blip r:embed="rId1"/>
          <a:stretch/>
        </p:blipFill>
        <p:spPr>
          <a:xfrm>
            <a:off x="6156360" y="1341360"/>
            <a:ext cx="2160720" cy="19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3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28B4D-42B6-4AF3-919F-6842B93FB5A3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1193400" y="33336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ahoma"/>
              </a:rPr>
              <a:t>Лечењ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826920" y="1484280"/>
            <a:ext cx="7777440" cy="16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3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Основни циљ лечења је прекид акутног 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маларичног напада и превенција рецидив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9080" indent="-289080">
              <a:lnSpc>
                <a:spcPct val="13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Данас располажемо великим бројем антималаричних средстава која делују на различите развојне облике плазмодијум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684360" y="3573360"/>
          <a:ext cx="8137440" cy="2857680"/>
        </p:xfrm>
        <a:graphic>
          <a:graphicData uri="http://schemas.openxmlformats.org/drawingml/2006/table">
            <a:tbl>
              <a:tblPr/>
              <a:tblGrid>
                <a:gridCol w="2735280"/>
                <a:gridCol w="54021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инолонски дерива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inin, kinidin, hlorokin, meflokin, halofantrin, primak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ртемизински дерива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rtemizinin, artemetar, artesuna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нтифола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irimetamin, proguanil, hlorproguanil, trimetopri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нтибактеријски леков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traciklini, klindamicin, makrolidi, sulfonamid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овосинтетисани нафтакинонски леков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tovak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pic>
        <p:nvPicPr>
          <p:cNvPr id="193" name="Picture 99" descr="vol5-38p1-303-00"/>
          <p:cNvPicPr/>
          <p:nvPr/>
        </p:nvPicPr>
        <p:blipFill>
          <a:blip r:embed="rId1"/>
          <a:stretch/>
        </p:blipFill>
        <p:spPr>
          <a:xfrm>
            <a:off x="6300720" y="476280"/>
            <a:ext cx="2643120" cy="179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1066320" y="8571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Хемиопрофилакса малар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Антималаричну профилаксу треба узимати 2 недеље пре одласка, за време боравка и 4 недеље по повратку из ендемичних краје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ЗОНА А (ендемска подручја у којима су плазмодијуми осетлљиви на хлорокин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alibri"/>
                <a:ea typeface="Calibri"/>
              </a:rPr>
              <a:t>CHLOROQUINE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, таблете 300 mg, једна тбл.недељно, деца: 5 mg/кg телесне мас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Контраиндикације: преосетљивост на хлорокин, епилепсија, псоријаз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99DB2-E477-47E6-9F9F-0538189A3FC8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Rectangle 1"/>
          <p:cNvSpPr/>
          <p:nvPr/>
        </p:nvSpPr>
        <p:spPr>
          <a:xfrm>
            <a:off x="-5790960" y="128160"/>
            <a:ext cx="20726280" cy="200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Times New Roman"/>
              </a:rPr>
              <a:t>Inјекciоnа vакcinа prоtiv коlеrе, коri</a:t>
            </a:r>
            <a:r>
              <a:rPr b="0" lang="en-US" sz="700" spc="-1" strike="noStrike">
                <a:solidFill>
                  <a:srgbClr val="000000"/>
                </a:solidFill>
                <a:latin typeface="Calibri"/>
                <a:ea typeface="Times New Roman"/>
              </a:rPr>
              <a:t>š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Times New Roman"/>
              </a:rPr>
              <a:t>ćеnа dо sкоrо, dаје nекоmplеtnu zа</a:t>
            </a:r>
            <a:r>
              <a:rPr b="0" lang="en-US" sz="700" spc="-1" strike="noStrike">
                <a:solidFill>
                  <a:srgbClr val="000000"/>
                </a:solidFill>
                <a:latin typeface="Calibri"/>
                <a:ea typeface="Times New Roman"/>
              </a:rPr>
              <a:t>š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Times New Roman"/>
              </a:rPr>
              <a:t>titu која кrаtко trаје, lаžnu sigurnоst</a:t>
            </a:r>
            <a:r>
              <a:rPr b="0" lang="en-US" sz="7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Times New Roman"/>
              </a:rPr>
              <a:t> i vеć dugо sе nе prеpоručuје. Nоvа оrаlnа vакcinа dаје dоbru zа</a:t>
            </a:r>
            <a:r>
              <a:rPr b="0" lang="en-US" sz="700" spc="-1" strike="noStrike">
                <a:solidFill>
                  <a:srgbClr val="000000"/>
                </a:solidFill>
                <a:latin typeface="Calibri"/>
                <a:ea typeface="Times New Roman"/>
              </a:rPr>
              <a:t>š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Times New Roman"/>
              </a:rPr>
              <a:t>titu u trајаnju dо dvе gоdinе. I оvа vакcinа nе оbеzbеđuје zа</a:t>
            </a:r>
            <a:r>
              <a:rPr b="0" lang="en-US" sz="700" spc="-1" strike="noStrike">
                <a:solidFill>
                  <a:srgbClr val="000000"/>
                </a:solidFill>
                <a:latin typeface="Calibri"/>
                <a:ea typeface="Times New Roman"/>
              </a:rPr>
              <a:t>š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Times New Roman"/>
              </a:rPr>
              <a:t>titu 100%, pа su оsnоvnе mеrе prеvеnciје (higiјеnе) bаzičnе u zа</a:t>
            </a:r>
            <a:r>
              <a:rPr b="0" lang="en-US" sz="700" spc="-1" strike="noStrike">
                <a:solidFill>
                  <a:srgbClr val="000000"/>
                </a:solidFill>
                <a:latin typeface="Calibri"/>
                <a:ea typeface="Times New Roman"/>
              </a:rPr>
              <a:t>š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Times New Roman"/>
              </a:rPr>
              <a:t>titi оd оvе bоlеsti. Оvа vакcinа sе dаје u dvе dоzе sа rаzmакоm оd 10 dаnа, а zа</a:t>
            </a:r>
            <a:r>
              <a:rPr b="0" lang="en-US" sz="700" spc="-1" strike="noStrike">
                <a:solidFill>
                  <a:srgbClr val="000000"/>
                </a:solidFill>
                <a:latin typeface="Calibri"/>
                <a:ea typeface="Times New Roman"/>
              </a:rPr>
              <a:t>š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Times New Roman"/>
              </a:rPr>
              <a:t>titа nаstаје nакоn 10 dаnа оd dаvаnjа drugе dоzе. Niјеdnа zеmljа nе zаhtеvа sеrtifiкаt о vакcinаciјi prоtiv коlеrе као uslоv zа</a:t>
            </a:r>
            <a:r>
              <a:rPr b="0" lang="en-US" sz="7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Times New Roman"/>
              </a:rPr>
              <a:t> ulаzак u zеmlju.</a:t>
            </a: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1066320" y="785880"/>
            <a:ext cx="7543800" cy="53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ЗОНА Б (ендемска подручја у којима постоји резистенција плазмодијума на хлорокин)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alibri"/>
                <a:ea typeface="Calibri"/>
              </a:rPr>
              <a:t>CHLOROQUINE + PROGUANIL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, 100 mg 200 m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Једна комбинована таблета дневн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Контраиндикације: преосетљивост на хлорокин и/или прогванил, инсуфиијенција јетре и бубрега, епилепсија, псоријаз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Величина таблете није адекватна за особе са телесном тежином мањом од 50 кg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Узимати 1 дан пре одласка, све време боравка и 4 недеље након повратка из маларичног подручј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ЗОНА Ц (ендемска подручја у којима постоји висока резистенција plаzmоdiјum fаlcipаrumа на хлорокин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alibri"/>
                <a:ea typeface="Calibri"/>
              </a:rPr>
              <a:t>MEFLOQUINE (Lariam), 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таблете од 250 mg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јеdnа tаblеtа nеdеljn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Деца: 5 mg/кg телесне масе недељн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024CB-D973-40B1-B016-568139D97866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1066320" y="713880"/>
            <a:ext cx="754380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Tahoma"/>
              </a:rPr>
              <a:t>Контраиндикације: тел.тежина испод 5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g, </a:t>
            </a:r>
            <a:r>
              <a:rPr b="0" lang="sr-RS" sz="2000" spc="-1" strike="noStrike">
                <a:solidFill>
                  <a:srgbClr val="ffffff"/>
                </a:solidFill>
                <a:latin typeface="Tahoma"/>
              </a:rPr>
              <a:t>трудноћа, преосетљивост на мефлокин, неуропсихијатријски поремећаји (укључујући депресију), епилепсија, конвулзије, терапија мефлокином у претходне 4 недеље, не препоручује се особама чије занимање захтева фину координацију покрета и просторну оријентацију (пилоти, возачи...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Tahoma"/>
              </a:rPr>
              <a:t>Напомена: не узимати мефлокин унутар 12 сати од примене кинина и унутар 3 дана од апликације живих бактеријских вакцина (вакцина против трбушног тифуса и колере)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Tahoma"/>
              </a:rPr>
              <a:t>Ампицилин и тетрациклин, уколико се примењују истовремено, могу повећати ниво мефлокина у крв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D152F-4420-4DA1-AA0B-6B21451CE30C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1066320" y="8571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alibri"/>
                <a:ea typeface="Calibri"/>
              </a:rPr>
              <a:t>ATOVAQUONE + PROGUANIL (Malarone)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, 250 mg 100 mg, једна комбинована таблета дневн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Контраиндикације: осетљивост на састојке лека, тешка бубрежна инсифицијенција, телесна тежина мања од 11 кg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Истовремена употреба рифампицина, рифабутина, метоклопрамида и тетрациклина, доводи до смањења концентрације маларона у плазм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Узимати 1 дан пре поласка, све време боравка и 7 дана након повратка из маларичног подручј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BF6FE-8A28-452F-A06D-2869CB8B5F17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3" name="~PP4074.WAV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066320" y="928440"/>
            <a:ext cx="7543800" cy="51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alibri"/>
                <a:ea typeface="Calibri"/>
              </a:rPr>
              <a:t>DOXYCYCLIN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, таблете од 100 mg, једна таблета дневн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Контраиндикације: трудноћа и дојење, млађи од 8 година, преосетљивост на тетрациклине, дисфункција јетр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Напомена: доксициклин повећава осетљивост коже на сунчеву светлост, па особе са осетљивом кожом треба да користе УВА заштиту и избегавају директно излагање сунчевој светло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Узимати 1 дан пре одласка, све време боравка и 4 недеље по повратку из маларичног подручј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У случају да нисте у могућности да набавите препоручене лекове, као и за све друге информације везане за врсту и начин употребе антималаричних лекова, обратите се здравственој служби земље у којој се налазит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AB99F-CFD7-49B5-A613-0AF8DFC55D73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E3840-C2CE-4F52-9C97-8A919D88FB0B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7" name="Picture 5" descr="MalariaMap"/>
          <p:cNvPicPr/>
          <p:nvPr/>
        </p:nvPicPr>
        <p:blipFill>
          <a:blip r:embed="rId1"/>
          <a:stretch/>
        </p:blipFill>
        <p:spPr>
          <a:xfrm>
            <a:off x="1187280" y="765000"/>
            <a:ext cx="7344000" cy="540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06D3C-90D6-4D53-8ADE-85C06516FEBE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179280" y="404640"/>
            <a:ext cx="532944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ffff00"/>
                </a:solidFill>
                <a:latin typeface="Comic Sans MS"/>
              </a:rPr>
              <a:t>Инфективне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ffff00"/>
                </a:solidFill>
                <a:latin typeface="Comic Sans MS"/>
              </a:rPr>
              <a:t>болест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i="1" lang="sr-Latn-CS" sz="2400" spc="-1" strike="noStrike">
                <a:solidFill>
                  <a:srgbClr val="ffff00"/>
                </a:solidFill>
                <a:latin typeface="Comic Sans MS"/>
              </a:rPr>
              <a:t>Предавање 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Comic Sans MS"/>
              </a:rPr>
              <a:t>Амебијаза/</a:t>
            </a:r>
            <a:r>
              <a:rPr b="1" i="1" lang="sr-Latn-CS" sz="3600" spc="-1" strike="noStrike">
                <a:solidFill>
                  <a:srgbClr val="ffff00"/>
                </a:solidFill>
                <a:latin typeface="Comic Sans MS"/>
              </a:rPr>
              <a:t>Amoebiasi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0" name="Picture 6" descr="Mikroorganismen"/>
          <p:cNvPicPr/>
          <p:nvPr/>
        </p:nvPicPr>
        <p:blipFill>
          <a:blip r:embed="rId1"/>
          <a:stretch/>
        </p:blipFill>
        <p:spPr>
          <a:xfrm>
            <a:off x="5508720" y="1557360"/>
            <a:ext cx="344304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1E312-664F-453A-BC6E-E1546B0536BC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1547640" y="62064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ahoma"/>
              </a:rPr>
              <a:t>Дефинициј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1187280" y="1989000"/>
            <a:ext cx="7129800" cy="1492560"/>
          </a:xfrm>
          <a:prstGeom prst="rect">
            <a:avLst/>
          </a:prstGeom>
          <a:noFill/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Маларија је заразно обољење које изазивају четири врсте паразита из рода </a:t>
            </a:r>
            <a:r>
              <a:rPr b="1" i="1" lang="sr-Latn-CS" sz="1800" spc="-1" strike="noStrike">
                <a:solidFill>
                  <a:srgbClr val="ffff00"/>
                </a:solidFill>
                <a:latin typeface="Tahoma"/>
              </a:rPr>
              <a:t>Plasmodium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, а преносе је убодом комарци из рода </a:t>
            </a:r>
            <a:r>
              <a:rPr b="1" i="1" lang="sr-Latn-CS" sz="1800" spc="-1" strike="noStrike">
                <a:solidFill>
                  <a:srgbClr val="ffff00"/>
                </a:solidFill>
                <a:latin typeface="Tahoma"/>
              </a:rPr>
              <a:t>Anopheles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1258920" y="4221000"/>
            <a:ext cx="73454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Клинички се болест карактерише маларичним нападима (периодични напади грознице), анемијом и спленомегалијом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BB712-8C9C-4F39-9C89-206FA218380E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1438920" y="777960"/>
            <a:ext cx="21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ahoma"/>
              </a:rPr>
              <a:t>Дефини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1332000" y="2565360"/>
            <a:ext cx="7200720" cy="2151360"/>
          </a:xfrm>
          <a:prstGeom prst="rect">
            <a:avLst/>
          </a:prstGeom>
          <a:noFill/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Амебијаза означава инфестацију организма протозоом </a:t>
            </a:r>
            <a:r>
              <a:rPr b="1" i="1" lang="en-US" sz="1800" spc="-1" strike="noStrike">
                <a:solidFill>
                  <a:srgbClr val="ffff00"/>
                </a:solidFill>
                <a:latin typeface="Tahoma"/>
              </a:rPr>
              <a:t>Entamoeba histolytica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,</a:t>
            </a: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 која се клинички испољава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широким спектром – од асимптоматске, преко амебног колитиса до инвазивних облика са стварањем апсцеса, пре свега у јетр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65EC7-1B1D-42C7-93E3-99DF7CC83DFC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1403280" y="765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ahoma"/>
              </a:rPr>
              <a:t>Ети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971640" y="1989000"/>
            <a:ext cx="7921440" cy="35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5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Е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tamoeba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istolytica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је примарно паразит дебелог црев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5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Појављује се у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ри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облика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5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цистични облик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5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релазна форма (минута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5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хистоли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ти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ч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к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и облик (трофозоит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5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Трофозит је патогени облик паразита (продукује протеолитичке ензиме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65A15-6617-45D6-A078-3BEBE52D8D42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8" name="Picture 4" descr="ehistolytica2"/>
          <p:cNvPicPr/>
          <p:nvPr/>
        </p:nvPicPr>
        <p:blipFill>
          <a:blip r:embed="rId1"/>
          <a:stretch/>
        </p:blipFill>
        <p:spPr>
          <a:xfrm>
            <a:off x="1258920" y="1268280"/>
            <a:ext cx="2390760" cy="24670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enta3"/>
          <p:cNvPicPr/>
          <p:nvPr/>
        </p:nvPicPr>
        <p:blipFill>
          <a:blip r:embed="rId2"/>
          <a:stretch/>
        </p:blipFill>
        <p:spPr>
          <a:xfrm>
            <a:off x="4572000" y="1268280"/>
            <a:ext cx="3170160" cy="24004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enta6"/>
          <p:cNvPicPr/>
          <p:nvPr/>
        </p:nvPicPr>
        <p:blipFill>
          <a:blip r:embed="rId3"/>
          <a:stretch/>
        </p:blipFill>
        <p:spPr>
          <a:xfrm>
            <a:off x="2843280" y="3933720"/>
            <a:ext cx="3527280" cy="226872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7"/>
          <p:cNvSpPr/>
          <p:nvPr/>
        </p:nvSpPr>
        <p:spPr>
          <a:xfrm>
            <a:off x="1181880" y="476280"/>
            <a:ext cx="443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00"/>
                </a:solidFill>
                <a:latin typeface="Tahoma"/>
              </a:rPr>
              <a:t>Цистични облик </a:t>
            </a:r>
            <a:r>
              <a:rPr b="0" i="1" lang="sr-Latn-CS" sz="1800" spc="-1" strike="noStrike">
                <a:solidFill>
                  <a:srgbClr val="ffff00"/>
                </a:solidFill>
                <a:latin typeface="Tahoma"/>
              </a:rPr>
              <a:t>Entamoebe histolytica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5E641-EB2B-47E9-AFC2-0BDFCDE8CA21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Picture 4" descr="E_histol_troph_drawA"/>
          <p:cNvPicPr/>
          <p:nvPr/>
        </p:nvPicPr>
        <p:blipFill>
          <a:blip r:embed="rId1"/>
          <a:srcRect l="8873" t="0" r="11118" b="0"/>
          <a:stretch/>
        </p:blipFill>
        <p:spPr>
          <a:xfrm>
            <a:off x="1042920" y="1700280"/>
            <a:ext cx="2708280" cy="33843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E_histol_troph_C"/>
          <p:cNvPicPr/>
          <p:nvPr/>
        </p:nvPicPr>
        <p:blipFill>
          <a:blip r:embed="rId2"/>
          <a:stretch/>
        </p:blipFill>
        <p:spPr>
          <a:xfrm>
            <a:off x="6732720" y="1700280"/>
            <a:ext cx="2079360" cy="33843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E_histol_troph_D"/>
          <p:cNvPicPr/>
          <p:nvPr/>
        </p:nvPicPr>
        <p:blipFill>
          <a:blip r:embed="rId3"/>
          <a:stretch/>
        </p:blipFill>
        <p:spPr>
          <a:xfrm>
            <a:off x="4067280" y="1700280"/>
            <a:ext cx="2376360" cy="338436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7"/>
          <p:cNvSpPr/>
          <p:nvPr/>
        </p:nvSpPr>
        <p:spPr>
          <a:xfrm>
            <a:off x="1404000" y="836640"/>
            <a:ext cx="355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00"/>
                </a:solidFill>
                <a:latin typeface="Tahoma"/>
              </a:rPr>
              <a:t>Хистолитички облик 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i="1" lang="en-GB" sz="1800" spc="-1" strike="noStrike">
                <a:solidFill>
                  <a:srgbClr val="ffff00"/>
                </a:solidFill>
                <a:latin typeface="Tahoma"/>
              </a:rPr>
              <a:t>trofozoit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22A28-A2A5-4FA5-A9A5-5B49C666C485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1090800" y="189000"/>
            <a:ext cx="284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ahoma"/>
              </a:rPr>
              <a:t>Епидеми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971640" y="692280"/>
            <a:ext cx="72723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У свету има око 500 милиона особа инфестираних амебом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Амебијаза је космополитско обољење, али је најзаступљенија у 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тропским и суптропским крајевим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0" name="Picture 6" descr="amoebiasis1"/>
          <p:cNvPicPr/>
          <p:nvPr/>
        </p:nvPicPr>
        <p:blipFill>
          <a:blip r:embed="rId1"/>
          <a:stretch/>
        </p:blipFill>
        <p:spPr>
          <a:xfrm>
            <a:off x="971640" y="1844640"/>
            <a:ext cx="7345440" cy="369720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7"/>
          <p:cNvSpPr/>
          <p:nvPr/>
        </p:nvSpPr>
        <p:spPr>
          <a:xfrm>
            <a:off x="1042920" y="5661000"/>
            <a:ext cx="792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ебијаза је типична фекално-орална инфекција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;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звор инфекције су болесник или амебоноша који столицом излучују цисте у спољну средину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;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човек се инфицира уношењем циста у органозму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рљаве руке, вода, храна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F982F-2A1B-4755-B582-5D048962282A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1187280" y="18900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ahoma"/>
              </a:rPr>
              <a:t>Патогене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4788000" y="549360"/>
            <a:ext cx="4176720" cy="70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spcBef>
                <a:spcPts val="9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Цисте након ингестије, пролазе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желудац и танко црево, доспевају у дебело црево где под повољним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условима прелазе у трофозоите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spcBef>
                <a:spcPts val="9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Захваљујући својим протеолитичким ферментима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(цистеин-протеазе)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могу да продру кроз цревну слуз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ницу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, у субмукози изазивају некротично-инфламаторне промене, што у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крајњој инстанци резултира стварањем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улцерација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spcBef>
                <a:spcPts val="9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Лезије код амебијазе обично су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локализоване на цекуму и 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асцедентном колону, али су често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захваћени и ректум и сигма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spcBef>
                <a:spcPts val="9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Ређе, трофозоити могу да продру и у крвне судове (цревног зида) и 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портним крвотоком у јетру, где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формирају амебне а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п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сцес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5" name="Picture 7" descr="image006"/>
          <p:cNvPicPr/>
          <p:nvPr/>
        </p:nvPicPr>
        <p:blipFill>
          <a:blip r:embed="rId1"/>
          <a:stretch/>
        </p:blipFill>
        <p:spPr>
          <a:xfrm>
            <a:off x="250920" y="765000"/>
            <a:ext cx="4467240" cy="554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2E349-6E9F-4D2E-AE60-62C6B2F863C7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7" name="Picture 4" descr="entah1"/>
          <p:cNvPicPr/>
          <p:nvPr/>
        </p:nvPicPr>
        <p:blipFill>
          <a:blip r:embed="rId1"/>
          <a:stretch/>
        </p:blipFill>
        <p:spPr>
          <a:xfrm>
            <a:off x="1692360" y="1413000"/>
            <a:ext cx="6264360" cy="46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EE232-B966-4699-AC84-CBD9B7133FA7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1332000" y="54936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Клиничка слик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1258920" y="2060640"/>
            <a:ext cx="7056360" cy="38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Инкубација код амебијазе је варијабилна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6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Амебијаза клинички може да се манифестује у више облика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6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асимптоматска амебијаза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6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акутна интестинална амебијаза (амебна дизентерија)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6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хронична интестинална амебијаза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6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екстраинтестинална амебијаза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F6EBD-DA0C-429F-8C07-BA4258FDB054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1187280" y="620640"/>
            <a:ext cx="777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00"/>
                </a:solidFill>
                <a:latin typeface="Tahoma"/>
              </a:rPr>
              <a:t>АКУТНА ИНТЕСТИНАЛНА АМЕБИЈАЗА (АМЕБНА ДИЗЕНТЕРИЈА)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1042920" y="2060640"/>
            <a:ext cx="7921800" cy="40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80000"/>
              </a:lnSpc>
              <a:spcBef>
                <a:spcPts val="18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Ретка у нашем поднебљу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80000"/>
              </a:lnSpc>
              <a:spcBef>
                <a:spcPts val="18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Tahoma"/>
              </a:rPr>
              <a:t>Симптоми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: болови у трбуху, учестале слузаво-крваве столице 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("ректални испљувак"), тенезни и лажни позиви на столицу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80000"/>
              </a:lnSpc>
              <a:spcBef>
                <a:spcPts val="18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За разлику од бациларне дизентерије, код амебне дизентерије нису 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јаче испољени знаци фебрилности, дехридације и интоксикације организм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A23C5-5640-40F6-906F-A91C7C120B9A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1332000" y="54936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Ком</a:t>
            </a:r>
            <a:r>
              <a:rPr b="1" lang="sr-Latn-CS" sz="2400" spc="-1" strike="noStrike">
                <a:solidFill>
                  <a:srgbClr val="ffff00"/>
                </a:solidFill>
                <a:latin typeface="Tahoma"/>
              </a:rPr>
              <a:t>п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ликациј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900000" y="1916280"/>
            <a:ext cx="8136000" cy="45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23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Перфорација са последичним перитонитисом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9080" indent="-289080">
              <a:lnSpc>
                <a:spcPct val="23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Стеноза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9080" indent="-289080">
              <a:lnSpc>
                <a:spcPct val="23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Амебоми (хроничне грануломатозне пролиферације у цревном зиду)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9080" indent="-289080">
              <a:lnSpc>
                <a:spcPct val="23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Крва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р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ење (најчешће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о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ку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л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тно)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9080" indent="-289080">
              <a:lnSpc>
                <a:spcPct val="23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Екстраинтестинална амебијаза (хепатитич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к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а, церебрална, перитонеална, ...)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ECF88-8363-4428-8886-6A5910306AE3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258920" y="188280"/>
            <a:ext cx="2160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ahoma"/>
              </a:rPr>
              <a:t>Ети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7" descr="P_malariae_schizont4"/>
          <p:cNvPicPr/>
          <p:nvPr/>
        </p:nvPicPr>
        <p:blipFill>
          <a:blip r:embed="rId1"/>
          <a:srcRect l="0" t="14399" r="0" b="0"/>
          <a:stretch/>
        </p:blipFill>
        <p:spPr>
          <a:xfrm>
            <a:off x="5940360" y="1052640"/>
            <a:ext cx="2160720" cy="16542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8"/>
          <p:cNvSpPr/>
          <p:nvPr/>
        </p:nvSpPr>
        <p:spPr>
          <a:xfrm>
            <a:off x="5747400" y="2852640"/>
            <a:ext cx="268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00"/>
                </a:solidFill>
                <a:latin typeface="Tahoma"/>
              </a:rPr>
              <a:t>Pl</a:t>
            </a:r>
            <a:r>
              <a:rPr b="0" i="1" lang="sr-Latn-CS" sz="1800" spc="-1" strike="noStrike">
                <a:solidFill>
                  <a:srgbClr val="ffff00"/>
                </a:solidFill>
                <a:latin typeface="Tahoma"/>
              </a:rPr>
              <a:t>asmodium</a:t>
            </a:r>
            <a:r>
              <a:rPr b="0" i="1" lang="en-GB" sz="1800" spc="-1" strike="noStrike">
                <a:solidFill>
                  <a:srgbClr val="ffff00"/>
                </a:solidFill>
                <a:latin typeface="Tahoma"/>
              </a:rPr>
              <a:t> malariae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узрочник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M. kvartan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10" descr="Plasmodium_vivax"/>
          <p:cNvPicPr/>
          <p:nvPr/>
        </p:nvPicPr>
        <p:blipFill>
          <a:blip r:embed="rId2"/>
          <a:stretch/>
        </p:blipFill>
        <p:spPr>
          <a:xfrm>
            <a:off x="1763640" y="1052640"/>
            <a:ext cx="2163960" cy="169704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11"/>
          <p:cNvSpPr/>
          <p:nvPr/>
        </p:nvSpPr>
        <p:spPr>
          <a:xfrm>
            <a:off x="1646640" y="2924280"/>
            <a:ext cx="259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00"/>
                </a:solidFill>
                <a:latin typeface="Tahoma"/>
              </a:rPr>
              <a:t>Pl</a:t>
            </a:r>
            <a:r>
              <a:rPr b="0" i="1" lang="sr-Latn-CS" sz="1800" spc="-1" strike="noStrike">
                <a:solidFill>
                  <a:srgbClr val="ffff00"/>
                </a:solidFill>
                <a:latin typeface="Tahoma"/>
              </a:rPr>
              <a:t>asmodium</a:t>
            </a:r>
            <a:r>
              <a:rPr b="0" i="1" lang="en-GB" sz="1800" spc="-1" strike="noStrike">
                <a:solidFill>
                  <a:srgbClr val="ffff00"/>
                </a:solidFill>
                <a:latin typeface="Tahoma"/>
              </a:rPr>
              <a:t> vivax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узрочник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M. tercian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13" descr="ovale"/>
          <p:cNvPicPr/>
          <p:nvPr/>
        </p:nvPicPr>
        <p:blipFill>
          <a:blip r:embed="rId3"/>
          <a:srcRect l="0" t="3055" r="0" b="13823"/>
          <a:stretch/>
        </p:blipFill>
        <p:spPr>
          <a:xfrm>
            <a:off x="1835280" y="3860640"/>
            <a:ext cx="2158920" cy="17272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4"/>
          <p:cNvSpPr/>
          <p:nvPr/>
        </p:nvSpPr>
        <p:spPr>
          <a:xfrm>
            <a:off x="1795320" y="5661000"/>
            <a:ext cx="22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00"/>
                </a:solidFill>
                <a:latin typeface="Tahoma"/>
              </a:rPr>
              <a:t>Pl</a:t>
            </a:r>
            <a:r>
              <a:rPr b="0" i="1" lang="sr-Latn-CS" sz="1800" spc="-1" strike="noStrike">
                <a:solidFill>
                  <a:srgbClr val="ffff00"/>
                </a:solidFill>
                <a:latin typeface="Tahoma"/>
              </a:rPr>
              <a:t>asmodium</a:t>
            </a:r>
            <a:r>
              <a:rPr b="0" i="1" lang="en-GB" sz="1800" spc="-1" strike="noStrike">
                <a:solidFill>
                  <a:srgbClr val="ffff00"/>
                </a:solidFill>
                <a:latin typeface="Tahoma"/>
              </a:rPr>
              <a:t> ovale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узрочник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M. ova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16" descr="winzeler02"/>
          <p:cNvPicPr/>
          <p:nvPr/>
        </p:nvPicPr>
        <p:blipFill>
          <a:blip r:embed="rId4"/>
          <a:srcRect l="18430" t="18250" r="7787" b="0"/>
          <a:stretch/>
        </p:blipFill>
        <p:spPr>
          <a:xfrm>
            <a:off x="5940360" y="3860640"/>
            <a:ext cx="2160720" cy="17290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17"/>
          <p:cNvSpPr/>
          <p:nvPr/>
        </p:nvSpPr>
        <p:spPr>
          <a:xfrm>
            <a:off x="5753160" y="5661000"/>
            <a:ext cx="267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00"/>
                </a:solidFill>
                <a:latin typeface="Tahoma"/>
              </a:rPr>
              <a:t>Pl</a:t>
            </a:r>
            <a:r>
              <a:rPr b="0" i="1" lang="sr-Latn-CS" sz="1800" spc="-1" strike="noStrike">
                <a:solidFill>
                  <a:srgbClr val="ffff00"/>
                </a:solidFill>
                <a:latin typeface="Tahoma"/>
              </a:rPr>
              <a:t>asmodium</a:t>
            </a:r>
            <a:r>
              <a:rPr b="0" i="1" lang="en-GB" sz="1800" spc="-1" strike="noStrike">
                <a:solidFill>
                  <a:srgbClr val="ffff00"/>
                </a:solidFill>
                <a:latin typeface="Tahoma"/>
              </a:rPr>
              <a:t> falciparum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узрочник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M. tropik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782C2-FEE6-4E2B-8B74-692DB0A0EACA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1187280" y="549360"/>
            <a:ext cx="18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ahoma"/>
              </a:rPr>
              <a:t>Дијагн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Text Box 5"/>
          <p:cNvSpPr/>
          <p:nvPr/>
        </p:nvSpPr>
        <p:spPr>
          <a:xfrm>
            <a:off x="1071720" y="1785960"/>
            <a:ext cx="777708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5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Клиничка слика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5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Микробиолошка испитивања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5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директан микроскопски преглед препарата столице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5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култивисање столице на Leffler-Симићевој подлози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5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серолошке реакције (RVK, RIH, ELISA)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5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молекуларна метода (PCR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5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Ректоскопски преглед са биопсијом слузнице (ради хистолошког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прегледа слузнице на трофозоите!)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7DE99-6C2E-4246-8460-E89FF0F757F7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1116000" y="47628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Терапиј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Rectangle 7"/>
          <p:cNvSpPr/>
          <p:nvPr/>
        </p:nvSpPr>
        <p:spPr>
          <a:xfrm>
            <a:off x="1094040" y="126756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99"/>
                </a:solidFill>
                <a:latin typeface="Tahoma"/>
              </a:rPr>
              <a:t>Подела амебицида</a:t>
            </a:r>
            <a:r>
              <a:rPr b="0" lang="en-US" sz="1800" spc="-1" strike="noStrike">
                <a:solidFill>
                  <a:srgbClr val="ffff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1116000" y="2205000"/>
          <a:ext cx="7632720" cy="3095640"/>
        </p:xfrm>
        <a:graphic>
          <a:graphicData uri="http://schemas.openxmlformats.org/drawingml/2006/table">
            <a:tbl>
              <a:tblPr/>
              <a:tblGrid>
                <a:gridCol w="3392640"/>
                <a:gridCol w="4240080"/>
              </a:tblGrid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Луменални амебицид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loksanid furoat, klefamid, paromomicin, teklozan, etofamid, dijodohidroksikvinolin, nitazoksanid, te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</a:t>
                      </a:r>
                      <a:r>
                        <a:rPr b="0" i="1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iklin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Ткивни или системски амебицид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etin, dihidroemetin, hlorokin, miltefosin, derivati arsena (karbazon i milibi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7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Мешани амебицид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-nitroimidazoli (metronidazol, ornidazol, tinidazol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88AC7-375A-4795-9AA2-CBAAEE6062F8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971640" y="1844640"/>
            <a:ext cx="784836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Асимптоматски носиоци (луменални агенси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 u="sng">
                <a:solidFill>
                  <a:srgbClr val="ffffff"/>
                </a:solidFill>
                <a:uFillTx/>
                <a:latin typeface="Tahoma"/>
              </a:rPr>
              <a:t>Јодокинол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(650 mg таб.) – доза: 3×650 mg/дан, 20 да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 u="sng">
                <a:solidFill>
                  <a:srgbClr val="ffffff"/>
                </a:solidFill>
                <a:uFillTx/>
                <a:latin typeface="Tahoma"/>
              </a:rPr>
              <a:t>Паромомицин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(250 mg таб.) – доза: 3×500 mg/дан, 10 да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Акутни колити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 u="sng">
                <a:solidFill>
                  <a:srgbClr val="ffffff"/>
                </a:solidFill>
                <a:uFillTx/>
                <a:latin typeface="Tahoma"/>
              </a:rPr>
              <a:t>Метронидазол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(250 mg таб.) – доза: 3×750 mg/дан, 10 дана</a:t>
            </a:r>
            <a:br>
              <a:rPr sz="1800"/>
            </a:b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+ луменални аген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Амебни апсцес јетр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Један од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 u="sng">
                <a:solidFill>
                  <a:srgbClr val="ffffff"/>
                </a:solidFill>
                <a:uFillTx/>
                <a:latin typeface="Tahoma"/>
              </a:rPr>
              <a:t>Метронидазол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(250 mg таб.) – доза: 3×750 mg/дан, 1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да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 u="sng">
                <a:solidFill>
                  <a:srgbClr val="ffffff"/>
                </a:solidFill>
                <a:uFillTx/>
                <a:latin typeface="Tahoma"/>
              </a:rPr>
              <a:t>Тинидазол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– доза: 2gr/дан,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5 да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 u="sng">
                <a:solidFill>
                  <a:srgbClr val="ffffff"/>
                </a:solidFill>
                <a:uFillTx/>
                <a:latin typeface="Tahoma"/>
              </a:rPr>
              <a:t>Орнидазол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– доза: 2gr/дан,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5 да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+ луменални агенс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6" name="Picture 5" descr="images1"/>
          <p:cNvPicPr/>
          <p:nvPr/>
        </p:nvPicPr>
        <p:blipFill>
          <a:blip r:embed="rId1"/>
          <a:stretch/>
        </p:blipFill>
        <p:spPr>
          <a:xfrm>
            <a:off x="6372360" y="189000"/>
            <a:ext cx="2457360" cy="184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E7F51-0213-426E-9AA5-8C68F9FF907D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900000" y="333360"/>
            <a:ext cx="7344000" cy="20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ffff00"/>
                </a:solidFill>
                <a:latin typeface="Comic Sans MS"/>
              </a:rPr>
              <a:t>Инфективне болест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i="1" lang="sr-Latn-CS" sz="2400" spc="-1" strike="noStrike">
                <a:solidFill>
                  <a:srgbClr val="ffff00"/>
                </a:solidFill>
                <a:latin typeface="Comic Sans MS"/>
              </a:rPr>
              <a:t>Предавање 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Comic Sans MS"/>
              </a:rPr>
              <a:t>Лај</a:t>
            </a:r>
            <a:r>
              <a:rPr b="1" i="1" lang="sr-Latn-CS" sz="3600" spc="-1" strike="noStrike">
                <a:solidFill>
                  <a:srgbClr val="ffff00"/>
                </a:solidFill>
                <a:latin typeface="Comic Sans MS"/>
              </a:rPr>
              <a:t>шманијаза</a:t>
            </a:r>
            <a:r>
              <a:rPr b="1" i="1" lang="en-US" sz="3600" spc="-1" strike="noStrike">
                <a:solidFill>
                  <a:srgbClr val="ffff00"/>
                </a:solidFill>
                <a:latin typeface="Comic Sans MS"/>
              </a:rPr>
              <a:t>/</a:t>
            </a:r>
            <a:r>
              <a:rPr b="1" i="1" lang="sr-Latn-CS" sz="3600" spc="-1" strike="noStrike">
                <a:solidFill>
                  <a:srgbClr val="ffff00"/>
                </a:solidFill>
                <a:latin typeface="Comic Sans MS"/>
              </a:rPr>
              <a:t>Leishmaniasi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9" name="Picture 5" descr="img026"/>
          <p:cNvPicPr/>
          <p:nvPr/>
        </p:nvPicPr>
        <p:blipFill>
          <a:blip r:embed="rId1"/>
          <a:srcRect l="16926" t="27953" r="9845" b="5906"/>
          <a:stretch/>
        </p:blipFill>
        <p:spPr>
          <a:xfrm>
            <a:off x="1979640" y="2565360"/>
            <a:ext cx="5689440" cy="385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B45FA-FC55-4503-AEC1-CA043667E20C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1042920" y="2205000"/>
            <a:ext cx="7850160" cy="2841480"/>
          </a:xfrm>
          <a:prstGeom prst="rect">
            <a:avLst/>
          </a:prstGeom>
          <a:noFill/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Лајшманијаза је хронично инфективно обољење које изазивају паразити из рода </a:t>
            </a:r>
            <a:r>
              <a:rPr b="0" i="1" lang="sr-Latn-CS" sz="1800" spc="-1" strike="noStrike">
                <a:solidFill>
                  <a:srgbClr val="ffff00"/>
                </a:solidFill>
                <a:latin typeface="Tahoma"/>
              </a:rPr>
              <a:t>Leishmania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, а преносе инсекти из рода </a:t>
            </a:r>
            <a:r>
              <a:rPr b="0" i="1" lang="sr-Latn-CS" sz="1800" spc="-1" strike="noStrike">
                <a:solidFill>
                  <a:srgbClr val="ffff00"/>
                </a:solidFill>
                <a:latin typeface="Tahoma"/>
              </a:rPr>
              <a:t>Phlebotomus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Клинички се јавља у три облика: </a:t>
            </a:r>
            <a:r>
              <a:rPr b="0" i="1" lang="sr-CS" sz="1800" spc="-1" strike="noStrike">
                <a:solidFill>
                  <a:srgbClr val="ffff00"/>
                </a:solidFill>
                <a:latin typeface="Tahoma"/>
              </a:rPr>
              <a:t>висцерални</a:t>
            </a:r>
            <a:r>
              <a:rPr b="0" i="1" lang="sr-CS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sr-CS" sz="1800" spc="-1" strike="noStrike">
                <a:solidFill>
                  <a:srgbClr val="ffff00"/>
                </a:solidFill>
                <a:latin typeface="Tahoma"/>
              </a:rPr>
              <a:t>кожни</a:t>
            </a:r>
            <a:r>
              <a:rPr b="0" i="1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и </a:t>
            </a:r>
            <a:r>
              <a:rPr b="0" i="1" lang="sr-CS" sz="1800" spc="-1" strike="noStrike">
                <a:solidFill>
                  <a:srgbClr val="ffff00"/>
                </a:solidFill>
                <a:latin typeface="Tahoma"/>
              </a:rPr>
              <a:t>мукозални</a:t>
            </a:r>
            <a:r>
              <a:rPr b="0" i="1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облик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1403280" y="83664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ahoma"/>
              </a:rPr>
              <a:t>Дефини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86BA6-EC9B-4FC8-8E8C-59AE013D7C66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1476360" y="112536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ahoma"/>
              </a:rPr>
              <a:t>Етиологија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1042920" y="2276640"/>
            <a:ext cx="7993080" cy="359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4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Лајшманије (род </a:t>
            </a:r>
            <a:r>
              <a:rPr b="1" i="1" lang="sr-Latn-CS" sz="1800" spc="-1" strike="noStrike">
                <a:solidFill>
                  <a:srgbClr val="ffffff"/>
                </a:solidFill>
                <a:latin typeface="Tahoma"/>
              </a:rPr>
              <a:t>Leishmania</a:t>
            </a:r>
            <a:r>
              <a:rPr b="0" i="1" lang="sr-CS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фамилија </a:t>
            </a:r>
            <a:r>
              <a:rPr b="1" i="1" lang="sr-Latn-CS" sz="1800" spc="-1" strike="noStrike">
                <a:solidFill>
                  <a:srgbClr val="ffffff"/>
                </a:solidFill>
                <a:latin typeface="Tahoma"/>
              </a:rPr>
              <a:t>Trypanosomatidae</a:t>
            </a:r>
            <a:r>
              <a:rPr b="0" i="1" lang="sr-CS" sz="1800" spc="-1" strike="noStrike">
                <a:solidFill>
                  <a:srgbClr val="ffffff"/>
                </a:solidFill>
                <a:latin typeface="Tahoma"/>
              </a:rPr>
              <a:t>, </a:t>
            </a:r>
            <a:br>
              <a:rPr sz="1800"/>
            </a:b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класа </a:t>
            </a:r>
            <a:r>
              <a:rPr b="1" i="1" lang="sr-Latn-CS" sz="1800" spc="-1" strike="noStrike">
                <a:solidFill>
                  <a:srgbClr val="ffffff"/>
                </a:solidFill>
                <a:latin typeface="Tahoma"/>
              </a:rPr>
              <a:t>Mastigophora</a:t>
            </a:r>
            <a:r>
              <a:rPr b="0" i="1" lang="sr-CS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коло </a:t>
            </a:r>
            <a:r>
              <a:rPr b="1" i="1" lang="sr-Latn-CS" sz="1800" spc="-1" strike="noStrike">
                <a:solidFill>
                  <a:srgbClr val="ffffff"/>
                </a:solidFill>
                <a:latin typeface="Tahoma"/>
              </a:rPr>
              <a:t>Protozoa</a:t>
            </a:r>
            <a:r>
              <a:rPr b="0" i="1" lang="sr-CS" sz="1800" spc="-1" strike="noStrike">
                <a:solidFill>
                  <a:srgbClr val="ffffff"/>
                </a:solidFill>
                <a:latin typeface="Tahoma"/>
              </a:rPr>
              <a:t>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4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Висцералну лајшманијазу изазивају: </a:t>
            </a:r>
            <a:r>
              <a:rPr b="0" i="1" lang="sr-Latn-CS" sz="1800" spc="-1" strike="noStrike">
                <a:solidFill>
                  <a:srgbClr val="ffff00"/>
                </a:solidFill>
                <a:latin typeface="Tahoma"/>
              </a:rPr>
              <a:t>L. donovani, L. infantum i L. shagasi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4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Кутану лајшманијазу у </a:t>
            </a:r>
            <a:r>
              <a:rPr b="0" lang="sr-CS" sz="1800" spc="-1" strike="noStrike" u="sng">
                <a:solidFill>
                  <a:srgbClr val="ffffff"/>
                </a:solidFill>
                <a:uFillTx/>
                <a:latin typeface="Tahoma"/>
              </a:rPr>
              <a:t>старом свету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изазивају: </a:t>
            </a:r>
            <a:r>
              <a:rPr b="0" i="1" lang="sr-Latn-CS" sz="1800" spc="-1" strike="noStrike">
                <a:solidFill>
                  <a:srgbClr val="ffff00"/>
                </a:solidFill>
                <a:latin typeface="Tahoma"/>
              </a:rPr>
              <a:t>L. tropica, L. infantum, L. major, L. eatiopica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4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Кутану и мукозалну лајшманијазу у </a:t>
            </a:r>
            <a:r>
              <a:rPr b="0" lang="sr-CS" sz="1800" spc="-1" strike="noStrike" u="sng">
                <a:solidFill>
                  <a:srgbClr val="ffffff"/>
                </a:solidFill>
                <a:uFillTx/>
                <a:latin typeface="Tahoma"/>
              </a:rPr>
              <a:t>новом свету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изазивају: </a:t>
            </a:r>
            <a:r>
              <a:rPr b="0" i="1" lang="sr-Latn-CS" sz="1800" spc="-1" strike="noStrike">
                <a:solidFill>
                  <a:srgbClr val="ffff00"/>
                </a:solidFill>
                <a:latin typeface="Tahoma"/>
              </a:rPr>
              <a:t>L. mexicana, L. braziliensis, L. peruvana, L. guyanensis, L. amazonensis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316A7-CDCF-423D-8B7A-EA9EB904AAC0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1187280" y="333360"/>
            <a:ext cx="6140520" cy="98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Лајшманије се јављају у два морфолошка облика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sr-Latn-CS" sz="1800" spc="-1" strike="noStrike">
                <a:solidFill>
                  <a:srgbClr val="ffff00"/>
                </a:solidFill>
                <a:latin typeface="Tahoma"/>
              </a:rPr>
              <a:t>promastigot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sr-Latn-CS" sz="1800" spc="-1" strike="noStrike">
                <a:solidFill>
                  <a:srgbClr val="ffff00"/>
                </a:solidFill>
                <a:latin typeface="Tahoma"/>
              </a:rPr>
              <a:t>(leptomonans)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ffff00"/>
                </a:solidFill>
                <a:latin typeface="Tahoma"/>
              </a:rPr>
              <a:t>amastigot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1221840" y="1916280"/>
            <a:ext cx="167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ffff00"/>
                </a:solidFill>
                <a:latin typeface="Tahoma"/>
              </a:rPr>
              <a:t>Promastigo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9" name="Picture 6" descr="img008"/>
          <p:cNvPicPr/>
          <p:nvPr/>
        </p:nvPicPr>
        <p:blipFill>
          <a:blip r:embed="rId1"/>
          <a:srcRect l="19300" t="32677" r="11014" b="7465"/>
          <a:stretch/>
        </p:blipFill>
        <p:spPr>
          <a:xfrm>
            <a:off x="539640" y="2847960"/>
            <a:ext cx="4032360" cy="25970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7" descr="Ldon_trypomastigotes_Despo"/>
          <p:cNvPicPr/>
          <p:nvPr/>
        </p:nvPicPr>
        <p:blipFill>
          <a:blip r:embed="rId2"/>
          <a:stretch/>
        </p:blipFill>
        <p:spPr>
          <a:xfrm>
            <a:off x="5003640" y="2852640"/>
            <a:ext cx="3816360" cy="25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E0FE3-AC14-45EB-B119-34B6371EDD74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Rectangle 4"/>
          <p:cNvSpPr/>
          <p:nvPr/>
        </p:nvSpPr>
        <p:spPr>
          <a:xfrm>
            <a:off x="1362600" y="765000"/>
            <a:ext cx="14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ffff00"/>
                </a:solidFill>
                <a:latin typeface="Tahoma"/>
              </a:rPr>
              <a:t>Amastigo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3" name="Picture 5" descr="Ldono_Zaiman-amastigot"/>
          <p:cNvPicPr/>
          <p:nvPr/>
        </p:nvPicPr>
        <p:blipFill>
          <a:blip r:embed="rId1"/>
          <a:stretch/>
        </p:blipFill>
        <p:spPr>
          <a:xfrm>
            <a:off x="5076720" y="2133720"/>
            <a:ext cx="3832200" cy="25542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6" descr="Leishmaniasis-tropica,-amastigot"/>
          <p:cNvPicPr/>
          <p:nvPr/>
        </p:nvPicPr>
        <p:blipFill>
          <a:blip r:embed="rId2"/>
          <a:stretch/>
        </p:blipFill>
        <p:spPr>
          <a:xfrm>
            <a:off x="900000" y="2133720"/>
            <a:ext cx="3961080" cy="253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013BA-1A0B-4A81-A19D-9AA4D5FA4066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1285920" y="42876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ahoma"/>
              </a:rPr>
              <a:t>Епидеми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928800" y="1428840"/>
            <a:ext cx="7993080" cy="18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2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Резервоар инфекције су човек и разне врсте домаћих и дивљих животињ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2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Болест најчешће преносе убодом инсекти из рода 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Phlebotomus, </a:t>
            </a:r>
            <a:br>
              <a:rPr sz="1800"/>
            </a:b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ређе се може пренети трансфузијом крви и сексуалним контактом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8" name="Picture 6" descr="Flies"/>
          <p:cNvPicPr/>
          <p:nvPr/>
        </p:nvPicPr>
        <p:blipFill>
          <a:blip r:embed="rId1"/>
          <a:stretch/>
        </p:blipFill>
        <p:spPr>
          <a:xfrm>
            <a:off x="1258920" y="3716280"/>
            <a:ext cx="3240000" cy="24922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leish0705f1"/>
          <p:cNvPicPr/>
          <p:nvPr/>
        </p:nvPicPr>
        <p:blipFill>
          <a:blip r:embed="rId2"/>
          <a:srcRect l="9029" t="9712" r="3994" b="16238"/>
          <a:stretch/>
        </p:blipFill>
        <p:spPr>
          <a:xfrm>
            <a:off x="5003640" y="3716280"/>
            <a:ext cx="324036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C2A44-CE4A-4EAC-B363-6B4B48F33B95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971640" y="260280"/>
            <a:ext cx="80280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5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Лајшманијаза се најчешче јавља у тропским земљама Азије, Африке и </a:t>
            </a:r>
            <a:br>
              <a:rPr sz="1800"/>
            </a:b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Јужне Америке, у Европи углавном око Средоземног мор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2" name="Picture 5" descr="world_map-dobra"/>
          <p:cNvPicPr/>
          <p:nvPr/>
        </p:nvPicPr>
        <p:blipFill>
          <a:blip r:embed="rId1"/>
          <a:stretch/>
        </p:blipFill>
        <p:spPr>
          <a:xfrm>
            <a:off x="1763640" y="1484280"/>
            <a:ext cx="6624720" cy="496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EC80A-18E6-41CE-9CAE-12B00F4AC84E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4" descr="agambiae"/>
          <p:cNvPicPr/>
          <p:nvPr/>
        </p:nvPicPr>
        <p:blipFill>
          <a:blip r:embed="rId1"/>
          <a:stretch/>
        </p:blipFill>
        <p:spPr>
          <a:xfrm>
            <a:off x="1403280" y="1413000"/>
            <a:ext cx="3024360" cy="1973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malaria3"/>
          <p:cNvPicPr/>
          <p:nvPr/>
        </p:nvPicPr>
        <p:blipFill>
          <a:blip r:embed="rId2"/>
          <a:stretch/>
        </p:blipFill>
        <p:spPr>
          <a:xfrm>
            <a:off x="5508720" y="3933720"/>
            <a:ext cx="3240000" cy="2185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thumb-malaria_special"/>
          <p:cNvPicPr/>
          <p:nvPr/>
        </p:nvPicPr>
        <p:blipFill>
          <a:blip r:embed="rId3"/>
          <a:srcRect l="6557" t="0" r="9638" b="0"/>
          <a:stretch/>
        </p:blipFill>
        <p:spPr>
          <a:xfrm>
            <a:off x="1187280" y="3860640"/>
            <a:ext cx="3672000" cy="2286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mosquito2"/>
          <p:cNvPicPr/>
          <p:nvPr/>
        </p:nvPicPr>
        <p:blipFill>
          <a:blip r:embed="rId4"/>
          <a:stretch/>
        </p:blipFill>
        <p:spPr>
          <a:xfrm>
            <a:off x="5651640" y="1341360"/>
            <a:ext cx="2736720" cy="202104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0"/>
          <p:cNvSpPr/>
          <p:nvPr/>
        </p:nvSpPr>
        <p:spPr>
          <a:xfrm>
            <a:off x="1638720" y="549360"/>
            <a:ext cx="144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00"/>
                </a:solidFill>
                <a:latin typeface="Tahoma"/>
              </a:rPr>
              <a:t>Anophe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20F09-F2F0-4E64-9E79-BC1286710A11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1042920" y="54936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ahoma"/>
              </a:rPr>
              <a:t>Патогене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1042920" y="112536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Phlebotomine </a:t>
            </a:r>
            <a:r>
              <a:rPr b="0" lang="sr-Latn-C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promastigot </a:t>
            </a:r>
            <a:r>
              <a:rPr b="0" lang="sr-Latn-C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RES </a:t>
            </a:r>
            <a:r>
              <a:rPr b="0" lang="sr-Latn-C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amastigot </a:t>
            </a:r>
            <a:r>
              <a:rPr b="0" lang="sr-Latn-C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RES (лимфне жлезде, слезина, јетра, костна срж)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6" name="Picture 6" descr="leish0705f2"/>
          <p:cNvPicPr/>
          <p:nvPr/>
        </p:nvPicPr>
        <p:blipFill>
          <a:blip r:embed="rId1"/>
          <a:srcRect l="4641" t="12567" r="4646" b="11332"/>
          <a:stretch/>
        </p:blipFill>
        <p:spPr>
          <a:xfrm>
            <a:off x="1547640" y="1916280"/>
            <a:ext cx="6769440" cy="458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52571-9417-44D4-B22E-561E78162348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1162440" y="620640"/>
            <a:ext cx="289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ahoma"/>
              </a:rPr>
              <a:t>Клиничка слика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Text Box 5"/>
          <p:cNvSpPr/>
          <p:nvPr/>
        </p:nvSpPr>
        <p:spPr>
          <a:xfrm>
            <a:off x="1692360" y="2205000"/>
            <a:ext cx="575928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Болест се испољава у три клиничка облика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20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ffff00"/>
                </a:solidFill>
                <a:latin typeface="Tahoma"/>
              </a:rPr>
              <a:t>висцерални,</a:t>
            </a:r>
            <a:r>
              <a:rPr b="0" i="1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20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ffff00"/>
                </a:solidFill>
                <a:latin typeface="Tahoma"/>
              </a:rPr>
              <a:t>кожни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20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ffff00"/>
                </a:solidFill>
                <a:latin typeface="Tahoma"/>
              </a:rPr>
              <a:t>мукозалн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C259A-C472-4E09-B617-ABDC35FF4761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1116000" y="981000"/>
            <a:ext cx="54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ffff00"/>
                </a:solidFill>
                <a:latin typeface="Tahoma"/>
              </a:rPr>
              <a:t>Висцерална лајшманијаза (Kala Azar)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Text Box 5"/>
          <p:cNvSpPr/>
          <p:nvPr/>
        </p:nvSpPr>
        <p:spPr>
          <a:xfrm>
            <a:off x="1116000" y="2133720"/>
            <a:ext cx="7777080" cy="34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5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Инкубација варира од 3 дана до 8 месец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5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Болест почиње постепено: повишена температура, знојење, </a:t>
            </a:r>
            <a:br>
              <a:rPr sz="1800"/>
            </a:b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губитак апетита, малаксалост, мршављење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5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Физикални налаз: бледило коже и слузница, лимафаденопатија, спленомегалија,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хепатомегалија, интерстицијска пнеумонија, хеморагијски синдром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5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Нелечена висцерална лајшманијаза се завршава смрћу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183DF-031B-4503-A07C-61A9FE0CDDB2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4" name="Picture 4" descr="img026"/>
          <p:cNvPicPr/>
          <p:nvPr/>
        </p:nvPicPr>
        <p:blipFill>
          <a:blip r:embed="rId1"/>
          <a:srcRect l="16926" t="27953" r="11014" b="5906"/>
          <a:stretch/>
        </p:blipFill>
        <p:spPr>
          <a:xfrm>
            <a:off x="539640" y="1773360"/>
            <a:ext cx="5688000" cy="391608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5" descr="KalaAzar_Zaiman"/>
          <p:cNvPicPr/>
          <p:nvPr/>
        </p:nvPicPr>
        <p:blipFill>
          <a:blip r:embed="rId2"/>
          <a:srcRect l="17670" t="0" r="22157" b="0"/>
          <a:stretch/>
        </p:blipFill>
        <p:spPr>
          <a:xfrm>
            <a:off x="6443640" y="333360"/>
            <a:ext cx="2449440" cy="6108840"/>
          </a:xfrm>
          <a:prstGeom prst="rect">
            <a:avLst/>
          </a:prstGeom>
          <a:ln w="0">
            <a:noFill/>
          </a:ln>
        </p:spPr>
      </p:pic>
      <p:sp>
        <p:nvSpPr>
          <p:cNvPr id="296" name="Text Box 6"/>
          <p:cNvSpPr/>
          <p:nvPr/>
        </p:nvSpPr>
        <p:spPr>
          <a:xfrm>
            <a:off x="1470240" y="836640"/>
            <a:ext cx="113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ffff00"/>
                </a:solidFill>
                <a:latin typeface="Tahoma"/>
              </a:rPr>
              <a:t>Kala Az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50A56-0579-4322-8DDA-81E86271BFC9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1187280" y="907920"/>
            <a:ext cx="32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ffff00"/>
                </a:solidFill>
                <a:latin typeface="Tahoma"/>
              </a:rPr>
              <a:t>Кожна лајшманијаза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1042920" y="1773360"/>
            <a:ext cx="7848720" cy="36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200000"/>
              </a:lnSpc>
              <a:spcBef>
                <a:spcPts val="1576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Инкубација варира од 2 недеље до неколико месеци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50000"/>
              </a:lnSpc>
              <a:spcBef>
                <a:spcPts val="1576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Промене се јављају на откривеним деловима тела: на месту убода се</a:t>
            </a:r>
            <a:br>
              <a:rPr sz="1800"/>
            </a:b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најпре јавља </a:t>
            </a:r>
            <a:r>
              <a:rPr b="0" i="1" lang="sr-CS" sz="1800" spc="-1" strike="noStrike">
                <a:solidFill>
                  <a:srgbClr val="ffff00"/>
                </a:solidFill>
                <a:latin typeface="Tahoma"/>
              </a:rPr>
              <a:t>макула</a:t>
            </a:r>
            <a:r>
              <a:rPr b="0" i="1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која брзо прелази у</a:t>
            </a:r>
            <a:r>
              <a:rPr b="0" i="1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sr-CS" sz="1800" spc="-1" strike="noStrike">
                <a:solidFill>
                  <a:srgbClr val="ffff00"/>
                </a:solidFill>
                <a:latin typeface="Tahoma"/>
              </a:rPr>
              <a:t>папулу</a:t>
            </a:r>
            <a:r>
              <a:rPr b="0" i="1" lang="sr-CS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а ова у</a:t>
            </a:r>
            <a:r>
              <a:rPr b="0" i="1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sr-CS" sz="1800" spc="-1" strike="noStrike">
                <a:solidFill>
                  <a:srgbClr val="ffff00"/>
                </a:solidFill>
                <a:latin typeface="Tahoma"/>
              </a:rPr>
              <a:t>поткожни чворић</a:t>
            </a:r>
            <a:r>
              <a:rPr b="0" i="1" lang="sr-CS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који може да се одржава месецима и да спонтано ишчезне или егзулцерише </a:t>
            </a:r>
            <a:r>
              <a:rPr b="0" i="1" lang="sr-CS" sz="1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sr-CS" sz="1800" spc="-1" strike="noStrike">
                <a:solidFill>
                  <a:srgbClr val="ffff00"/>
                </a:solidFill>
                <a:latin typeface="Tahoma"/>
              </a:rPr>
              <a:t>безболна улцерација</a:t>
            </a:r>
            <a:r>
              <a:rPr b="0" i="1" lang="sr-CS" sz="1800" spc="-1" strike="noStrike">
                <a:solidFill>
                  <a:srgbClr val="ffffff"/>
                </a:solidFill>
                <a:latin typeface="Tahoma"/>
              </a:rPr>
              <a:t>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200000"/>
              </a:lnSpc>
              <a:spcBef>
                <a:spcPts val="1576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Кожне промене прати регионални лимафаденитис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312E1-A4E0-4E9C-A043-EADA6C9D1E74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1" name="Picture 4" descr="1455_f1"/>
          <p:cNvPicPr/>
          <p:nvPr/>
        </p:nvPicPr>
        <p:blipFill>
          <a:blip r:embed="rId1"/>
          <a:stretch/>
        </p:blipFill>
        <p:spPr>
          <a:xfrm>
            <a:off x="1332000" y="1004760"/>
            <a:ext cx="3311280" cy="25434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5" descr="leishmaniasis"/>
          <p:cNvPicPr/>
          <p:nvPr/>
        </p:nvPicPr>
        <p:blipFill>
          <a:blip r:embed="rId2"/>
          <a:stretch/>
        </p:blipFill>
        <p:spPr>
          <a:xfrm>
            <a:off x="5076720" y="1039680"/>
            <a:ext cx="2735280" cy="246384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6" descr="hand"/>
          <p:cNvPicPr/>
          <p:nvPr/>
        </p:nvPicPr>
        <p:blipFill>
          <a:blip r:embed="rId3"/>
          <a:stretch/>
        </p:blipFill>
        <p:spPr>
          <a:xfrm>
            <a:off x="1692360" y="3860640"/>
            <a:ext cx="2592360" cy="23497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7" descr="img041"/>
          <p:cNvPicPr/>
          <p:nvPr/>
        </p:nvPicPr>
        <p:blipFill>
          <a:blip r:embed="rId4"/>
          <a:srcRect l="15756" t="26394" r="7477" b="5906"/>
          <a:stretch/>
        </p:blipFill>
        <p:spPr>
          <a:xfrm>
            <a:off x="4788000" y="3860640"/>
            <a:ext cx="3600360" cy="23814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8"/>
          <p:cNvSpPr/>
          <p:nvPr/>
        </p:nvSpPr>
        <p:spPr>
          <a:xfrm>
            <a:off x="1502280" y="476280"/>
            <a:ext cx="24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ff00"/>
                </a:solidFill>
                <a:latin typeface="Tahoma"/>
              </a:rPr>
              <a:t>Кожна лајшманијаз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05A86-FCB0-49BF-AC58-5E630946648D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1411200" y="476280"/>
            <a:ext cx="351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ff00"/>
                </a:solidFill>
                <a:latin typeface="Tahoma"/>
              </a:rPr>
              <a:t>Дифузна кутана лајшманијаз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8" name="Picture 5" descr="difuzna kutana"/>
          <p:cNvPicPr/>
          <p:nvPr/>
        </p:nvPicPr>
        <p:blipFill>
          <a:blip r:embed="rId1"/>
          <a:srcRect l="18101" t="26165" r="13388" b="9031"/>
          <a:stretch/>
        </p:blipFill>
        <p:spPr>
          <a:xfrm>
            <a:off x="1403280" y="1268280"/>
            <a:ext cx="6553440" cy="466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AAE9F-0378-421F-8380-40C85A5E858F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1258920" y="333360"/>
            <a:ext cx="38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ffff00"/>
                </a:solidFill>
                <a:latin typeface="Tahoma"/>
              </a:rPr>
              <a:t>Мукозална лајшманијаз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Text Box 5"/>
          <p:cNvSpPr/>
          <p:nvPr/>
        </p:nvSpPr>
        <p:spPr>
          <a:xfrm>
            <a:off x="971640" y="907920"/>
            <a:ext cx="7993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2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Карактерише се опсежним, деструктивним променама на слузници носа, уста, фаринкса или ларинкса (локални деформитети)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2" name="Picture 6" descr="lei20"/>
          <p:cNvPicPr/>
          <p:nvPr/>
        </p:nvPicPr>
        <p:blipFill>
          <a:blip r:embed="rId1"/>
          <a:stretch/>
        </p:blipFill>
        <p:spPr>
          <a:xfrm>
            <a:off x="4427640" y="1916280"/>
            <a:ext cx="3240000" cy="21873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7" descr="abb05_s"/>
          <p:cNvPicPr/>
          <p:nvPr/>
        </p:nvPicPr>
        <p:blipFill>
          <a:blip r:embed="rId2"/>
          <a:stretch/>
        </p:blipFill>
        <p:spPr>
          <a:xfrm>
            <a:off x="1187280" y="2276640"/>
            <a:ext cx="2651400" cy="40320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8" descr="img043"/>
          <p:cNvPicPr/>
          <p:nvPr/>
        </p:nvPicPr>
        <p:blipFill>
          <a:blip r:embed="rId3"/>
          <a:srcRect l="16926" t="27953" r="6301" b="5906"/>
          <a:stretch/>
        </p:blipFill>
        <p:spPr>
          <a:xfrm>
            <a:off x="4427640" y="4365720"/>
            <a:ext cx="3240000" cy="209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7DC12-38B8-4B84-B6CC-9B7B220E8B7F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1688040" y="763920"/>
            <a:ext cx="18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ahoma"/>
              </a:rPr>
              <a:t>Дијагн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1692360" y="2133720"/>
            <a:ext cx="475128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Дијагноза се поставља на основу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220000"/>
              </a:lnSpc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1800" spc="-1" strike="noStrike">
                <a:solidFill>
                  <a:srgbClr val="ffffff"/>
                </a:solidFill>
                <a:latin typeface="Tahoma"/>
              </a:rPr>
              <a:t>Клиничке слике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220000"/>
              </a:lnSpc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1800" spc="-1" strike="noStrike">
                <a:solidFill>
                  <a:srgbClr val="ffffff"/>
                </a:solidFill>
                <a:latin typeface="Tahoma"/>
              </a:rPr>
              <a:t>Епидемиолошких података 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220000"/>
              </a:lnSpc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1800" spc="-1" strike="noStrike">
                <a:solidFill>
                  <a:srgbClr val="ffffff"/>
                </a:solidFill>
                <a:latin typeface="Tahoma"/>
              </a:rPr>
              <a:t>Лабораторијских анализ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FCD39-B61D-46BA-BF04-32DE57709DD2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Rectangle 4"/>
          <p:cNvSpPr/>
          <p:nvPr/>
        </p:nvSpPr>
        <p:spPr>
          <a:xfrm>
            <a:off x="1434600" y="534240"/>
            <a:ext cx="407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ffff00"/>
                </a:solidFill>
                <a:latin typeface="Tahoma"/>
              </a:rPr>
              <a:t>Лабораторијска дијагности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Rectangle 5"/>
          <p:cNvSpPr/>
          <p:nvPr/>
        </p:nvSpPr>
        <p:spPr>
          <a:xfrm>
            <a:off x="1343520" y="14122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ff00"/>
                </a:solidFill>
                <a:latin typeface="Tahoma"/>
              </a:rPr>
              <a:t>Хематолошке анализ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Rectangle 6"/>
          <p:cNvSpPr/>
          <p:nvPr/>
        </p:nvSpPr>
        <p:spPr>
          <a:xfrm>
            <a:off x="1186560" y="3789720"/>
            <a:ext cx="450072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6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21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хипоалбуминемиј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6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21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хипергамаглобулинемиј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6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21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повишена активност трансаминаз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Rectangle 7"/>
          <p:cNvSpPr/>
          <p:nvPr/>
        </p:nvSpPr>
        <p:spPr>
          <a:xfrm>
            <a:off x="1200960" y="2059920"/>
            <a:ext cx="705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панцитопенија (анемија, леукопенија, тромбоцитопенија)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Rectangle 8"/>
          <p:cNvSpPr/>
          <p:nvPr/>
        </p:nvSpPr>
        <p:spPr>
          <a:xfrm>
            <a:off x="1332360" y="3283920"/>
            <a:ext cx="24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ff00"/>
                </a:solidFill>
                <a:latin typeface="Tahoma"/>
              </a:rPr>
              <a:t>Биохемијске анализ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25851-4F3F-429B-975A-1659E10D9194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1476360" y="981000"/>
            <a:ext cx="395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ffff00"/>
                </a:solidFill>
                <a:latin typeface="Tahoma"/>
              </a:rPr>
              <a:t>Животни циклус плазмодијум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684360" y="2133720"/>
            <a:ext cx="4751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I  Асексуални циклус ("шизогонија"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01640" indent="-81000">
              <a:lnSpc>
                <a:spcPct val="2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прееритроцитна фаз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01640" indent="-81000">
              <a:lnSpc>
                <a:spcPct val="2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еритроцитна фаз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01640" indent="-81000">
              <a:lnSpc>
                <a:spcPct val="2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егзоеритроцитна фаз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II Сексуални циклус ("спорогонија"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7" descr="cyclustext"/>
          <p:cNvPicPr/>
          <p:nvPr/>
        </p:nvPicPr>
        <p:blipFill>
          <a:blip r:embed="rId1"/>
          <a:stretch/>
        </p:blipFill>
        <p:spPr>
          <a:xfrm>
            <a:off x="5508720" y="1557360"/>
            <a:ext cx="3471840" cy="388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FC27E-BB47-4428-B3AD-3FF53B2A20BC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1332000" y="119700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ff00"/>
                </a:solidFill>
                <a:latin typeface="Tahoma"/>
              </a:rPr>
              <a:t>Етиолошка дијагноз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Text Box 5"/>
          <p:cNvSpPr/>
          <p:nvPr/>
        </p:nvSpPr>
        <p:spPr>
          <a:xfrm>
            <a:off x="1187280" y="2060640"/>
            <a:ext cx="748836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5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идентификација узрочника у ткиву, најчешће костној сржи (микроскопски преглед пунктата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5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изолација узрочника из крви, костне сржи и других ткива (култивисање на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NNN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подлогама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5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доказивање специфичних антитела на лајшманије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(IF, ELISA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5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доказивање паразитне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DNK (PCR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2E7FC-6AAA-43A5-9E9C-843AE0072B7E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8" name="Picture 4" descr="amastigot - koza"/>
          <p:cNvPicPr/>
          <p:nvPr/>
        </p:nvPicPr>
        <p:blipFill>
          <a:blip r:embed="rId1"/>
          <a:srcRect l="16926" t="29520" r="19300" b="5906"/>
          <a:stretch/>
        </p:blipFill>
        <p:spPr>
          <a:xfrm>
            <a:off x="1763640" y="1700280"/>
            <a:ext cx="5400720" cy="410220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5"/>
          <p:cNvSpPr/>
          <p:nvPr/>
        </p:nvSpPr>
        <p:spPr>
          <a:xfrm>
            <a:off x="1589760" y="907920"/>
            <a:ext cx="340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ff00"/>
                </a:solidFill>
                <a:latin typeface="Tahoma"/>
              </a:rPr>
              <a:t>Амастигот у биоптату кож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3D1AC-0109-4A5F-AD49-B71D8DC996FA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1695240" y="503640"/>
            <a:ext cx="16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ahoma"/>
              </a:rPr>
              <a:t>Терап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Rectangle 5"/>
          <p:cNvSpPr/>
          <p:nvPr/>
        </p:nvSpPr>
        <p:spPr>
          <a:xfrm>
            <a:off x="1163880" y="1412280"/>
            <a:ext cx="34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ffff00"/>
                </a:solidFill>
                <a:latin typeface="Tahoma"/>
              </a:rPr>
              <a:t>Антипаразитарна терапија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1332000" y="1916280"/>
            <a:ext cx="309564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антимонски препарат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4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ароматични диамидин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4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амфотерицин Б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Rectangle 7"/>
          <p:cNvSpPr/>
          <p:nvPr/>
        </p:nvSpPr>
        <p:spPr>
          <a:xfrm>
            <a:off x="1000440" y="3644280"/>
            <a:ext cx="487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ffff00"/>
                </a:solidFill>
                <a:latin typeface="Tahoma"/>
              </a:rPr>
              <a:t>Симптоматско-супституциона терапија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1258920" y="4221000"/>
            <a:ext cx="6788160" cy="19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лечење анемије (трансфузије крви, гвожђе, витамин Б12)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7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лечење хипопротеинемије (20% албумини)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7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висококалоријска исхран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36" name="Picture 9" descr="ico_pills"/>
          <p:cNvPicPr/>
          <p:nvPr/>
        </p:nvPicPr>
        <p:blipFill>
          <a:blip r:embed="rId1"/>
          <a:stretch/>
        </p:blipFill>
        <p:spPr>
          <a:xfrm>
            <a:off x="5867280" y="620640"/>
            <a:ext cx="2417760" cy="3313080"/>
          </a:xfrm>
          <a:prstGeom prst="rect">
            <a:avLst/>
          </a:prstGeom>
          <a:ln w="0">
            <a:noFill/>
          </a:ln>
        </p:spPr>
      </p:pic>
      <p:pic>
        <p:nvPicPr>
          <p:cNvPr id="337" name="~PP705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3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13840" y="713880"/>
            <a:ext cx="8929800" cy="43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ff00"/>
                </a:solidFill>
                <a:latin typeface="Comic Sans MS"/>
              </a:rPr>
              <a:t>Инфективне</a:t>
            </a:r>
            <a:r>
              <a:rPr b="1" i="1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i="1" lang="sr-Latn-CS" sz="3200" spc="-1" strike="noStrike">
                <a:solidFill>
                  <a:srgbClr val="ffff00"/>
                </a:solidFill>
                <a:latin typeface="Comic Sans MS"/>
              </a:rPr>
              <a:t>болести</a:t>
            </a:r>
            <a:br>
              <a:rPr sz="3200"/>
            </a:br>
            <a:r>
              <a:rPr b="1" i="1" lang="sr-Latn-C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i="1" lang="sr-RS" sz="2000" spc="-1" strike="noStrike">
                <a:solidFill>
                  <a:srgbClr val="ffff00"/>
                </a:solidFill>
                <a:latin typeface="Comic Sans MS"/>
              </a:rPr>
              <a:t>-</a:t>
            </a:r>
            <a:r>
              <a:rPr b="1" i="1" lang="sr-Latn-CS" sz="2000" spc="-1" strike="noStrike">
                <a:solidFill>
                  <a:srgbClr val="ffff00"/>
                </a:solidFill>
                <a:latin typeface="Comic Sans MS"/>
              </a:rPr>
              <a:t>Предавање –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i="1" lang="sr-Latn-CS" sz="3200" spc="-1" strike="noStrike">
                <a:solidFill>
                  <a:srgbClr val="ffff00"/>
                </a:solidFill>
                <a:latin typeface="Comic Sans MS"/>
              </a:rPr>
              <a:t>TOXOPLASMOSIS</a:t>
            </a:r>
            <a:r>
              <a:rPr b="1" i="1" lang="sr-RS" sz="3200" spc="-1" strike="noStrike">
                <a:solidFill>
                  <a:srgbClr val="ffff00"/>
                </a:solidFill>
                <a:latin typeface="Comic Sans MS"/>
              </a:rPr>
              <a:t>/ТОКСОПЛАЗМОЗА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ЕТИОЛОГИЈА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380880" y="25909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П</a:t>
            </a:r>
            <a:r>
              <a:rPr b="0" lang="sr-R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ротозоа-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OXOPLASMA GONDII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ТРОФОЗОИТ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(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achyzoi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ЦИСТА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(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bradyzoi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Oocysta</a:t>
            </a:r>
            <a:r>
              <a:rPr b="0" lang="sr-R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-</a:t>
            </a:r>
            <a:r>
              <a:rPr b="0" lang="sr-R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инфективни облику цреву мачк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eaeaea"/>
                </a:solidFill>
                <a:latin typeface="Tahoma"/>
                <a:ea typeface="Times New Roman"/>
              </a:rPr>
              <a:t>Животни циклус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066320" y="1413000"/>
            <a:ext cx="75438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Tahoma"/>
              </a:rPr>
              <a:t>-Трофозоити</a:t>
            </a: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-инфекција ћелија (све ћелије са једром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-Потискивање једра на периферију-</a:t>
            </a:r>
            <a:r>
              <a:rPr b="0" lang="sr-RS" sz="2400" spc="-1" strike="noStrike">
                <a:solidFill>
                  <a:srgbClr val="ffff00"/>
                </a:solidFill>
                <a:latin typeface="Tahoma"/>
              </a:rPr>
              <a:t>псеудицис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-Прскање инфициране ћелије-инфекција наивних  ћел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-Услед развоја имуности-спречавање даљег развоја и умножавања трофозои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Tahoma"/>
              </a:rPr>
              <a:t>Цистичне форме </a:t>
            </a: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(окружене опном)-латентна фа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Деоба трофозоита унутар цисте значајно спорија-</a:t>
            </a:r>
            <a:r>
              <a:rPr b="0" lang="sr-RS" sz="2400" spc="-1" strike="noStrike">
                <a:solidFill>
                  <a:srgbClr val="ffff00"/>
                </a:solidFill>
                <a:latin typeface="Tahoma"/>
              </a:rPr>
              <a:t>брадизоити</a:t>
            </a: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 (инфективни облик-ЦНС, миокард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Slide Number Placeholder 2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D8AB5-E897-46CD-9F0B-7286FCE2CEF7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611280" y="836280"/>
            <a:ext cx="79992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Tahoma"/>
              </a:rPr>
              <a:t>Ооциста</a:t>
            </a: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-епител црева мачке (инфективни облик, спорозоит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-Излучивање у спољашњу средину-контамина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-Инфекција људи→трофозоит→циста, псеудоцис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Инфекција мачке-ооцисте, ткивни облиц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Црево мачке-ооциста→спорозоит→цревни епите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Шизонти→вретенасти мерозоити→запоседање нових ћел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Неки од мерозоита→гаметоцити→гаме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Зигот→ооциста→спољашња сред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9F5A2-D48E-4176-A190-F0A099584A66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7484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ЕПИДЕМИОЛОГИЈА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8088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Најраспрострањенија зооноза у свет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Преваленција ткивних циста у конзумном месу јако висока! (могу се наћи и у јајима, млеку-посебно козије, на поврћу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</a:t>
            </a: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езервоар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мачке</a:t>
            </a: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 (1% мачака свуда у свету излучује ооцист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-Бројне животиње-преносиоци цис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</a:t>
            </a: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утеви ширења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-Конзумирање сировог, тј. термички необрађеног меса и органа (садрже цисте)-25% свињског и говеђег мес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1042560" y="1527120"/>
            <a:ext cx="75438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-Контаминирана вода, храна и руке (ооцистам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-Парентерална инфекција лабораторијских радника (акцидентално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-Трансфузија крви и дерива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-Трансплантација орг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-Трансплацентарни прено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Slide Number Placeholder 2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0952C-E1E2-4642-B422-8682ECEF5A05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543800" cy="8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00"/>
                </a:solidFill>
                <a:latin typeface="Tahoma"/>
              </a:rPr>
              <a:t>ПАТОГЕНЕЗА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042560" y="836640"/>
            <a:ext cx="7543800" cy="57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Умножавање на месту улас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Регионалне ЛГЛ→паразитем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Инфекција осетљивих ћелија (жаришне некроз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Развој имунитета (до 3. недеље)→цисте (миокард, ЦНС, плућа, јетра, утерус, зид црева, слезина, око, мишићи, ЛГЛ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-Цисте су неактивне целог живота у већине људи (најчешће)-асимтоматско цистоношт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Tahoma"/>
              </a:rPr>
              <a:t>Имуносупресија</a:t>
            </a: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 (цитостатици, кортикостероиди, АИДС)→масивне некрозе (мозак, среце, плућ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5AA82-782E-4681-8682-1B183F9F01BC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B2CF2-0098-475A-B9E5-11DE3BADD241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7" descr="malariacycleBig"/>
          <p:cNvPicPr/>
          <p:nvPr/>
        </p:nvPicPr>
        <p:blipFill>
          <a:blip r:embed="rId1"/>
          <a:stretch/>
        </p:blipFill>
        <p:spPr>
          <a:xfrm>
            <a:off x="826920" y="836640"/>
            <a:ext cx="7921800" cy="528480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8"/>
          <p:cNvSpPr/>
          <p:nvPr/>
        </p:nvSpPr>
        <p:spPr>
          <a:xfrm>
            <a:off x="918360" y="260280"/>
            <a:ext cx="354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ff00"/>
                </a:solidFill>
                <a:latin typeface="Tahoma"/>
              </a:rPr>
              <a:t>Животни циклус плазмодијум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КЛИНИЧКА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СЛИКА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80880" y="23320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течена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токсоплазмоза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од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мунокомпетентних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соб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течена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токсоплазмоза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од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мунодефицијентних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соб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онгенитална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токсоплазм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куларна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токсоплазм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СТЕЧЕНА</a:t>
            </a:r>
            <a:r>
              <a:rPr b="1" lang="sr-Latn-C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ТОКСОПЛАЗМОЗА</a:t>
            </a:r>
            <a:r>
              <a:rPr b="1" lang="sr-Latn-C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КОД</a:t>
            </a:r>
            <a:r>
              <a:rPr b="1" lang="sr-Latn-C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ИМУНОКОМПЕТЕНТНИХ</a:t>
            </a:r>
            <a:r>
              <a:rPr b="1" lang="sr-Latn-C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ОСОБА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95280" y="836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јчешћи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манифестни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линички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бли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80</a:t>
            </a: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-90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%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лучајева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отиче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симптоматс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Генерализована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лимфаденопатија</a:t>
            </a: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 (лимфогландуларни облик)-доминира у вратној региј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Симптоми (благи или недостају): слабост, ноћно знојење, мијалгије, гушобоља, главобоља, субфебрилност, бол у трбуху (абдоминална лимфаденопатиј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Оспа, хепатоспленомегалија (понекад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Ређе: дисеминовани облик, хориоретинитис (једнострани), менингоенцефалитис, хепатитис, миокардитис, пнеумон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Траје неколико месеци, бенигног је то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29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СТЕЧЕНА</a:t>
            </a:r>
            <a:r>
              <a:rPr b="1" lang="sr-Latn-C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ТОКСОПЛАЗМОЗА</a:t>
            </a:r>
            <a:r>
              <a:rPr b="1" lang="sr-Latn-C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КОД</a:t>
            </a:r>
            <a:r>
              <a:rPr b="1" lang="sr-Latn-C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ИМУНОДЕФИЦИЈЕНТНИХ</a:t>
            </a:r>
            <a:r>
              <a:rPr b="1" lang="sr-Latn-C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ОСОБА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609120" y="1628280"/>
            <a:ext cx="800100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Тежак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линички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ток</a:t>
            </a: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 (најчешће код пацијената са АИДС-ом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нфекција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цнс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Миокард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неумон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Миоз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Хориоретин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Орх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КОНГЕНИТАЛНА</a:t>
            </a:r>
            <a:r>
              <a:rPr b="1" lang="sr-Latn-C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ТОКСОПЛАЗМОЗА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09120" y="1125360"/>
            <a:ext cx="8077320" cy="44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Акутна инфекција мајке у трудноћи (много ређе реактивација хроничне инфекције у трудница, услед жестоке имуносупресиј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1. триместар→25% инфекција плода (спонтани побачај, смрт плода, генерализована болест новорођенче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2. и 3. семестар→50-65% инфекција плода (80% инфициране деце се рађа без симптом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1066320" y="765000"/>
            <a:ext cx="75438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Клиничка сли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Хориоретинитис (обострани), слепило, епилепсија, психомоторна и ментална ретардација, анемија, иктерус, енцефалитис, микроцефалија, интракранијалне калцификације, пнеумон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јвећи број деце се рађа на изглед здра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Прематуруси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→знаци оштећења ока и ЦНС (у прва 3 месеца живот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Донешена деца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→лакша клиничка слика, у прва 2 месеца лимфаденопатија, хепатоспленомегалија (мада се може касније испољити оштећење ЦНС и очна симптоматологија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Slide Number Placeholder 2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C0B7C-FA1F-4FFE-BF32-C96FD9814CE7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63" name="~PP3279.WAV" descr=""/>
          <p:cNvPicPr/>
          <p:nvPr/>
        </p:nvPicPr>
        <p:blipFill>
          <a:blip r:embed="rId3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3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ОКУЛАРНА</a:t>
            </a:r>
            <a:r>
              <a:rPr b="1" lang="sr-Latn-C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ТОКСОПЛАЗМОЗА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80880" y="2666880"/>
            <a:ext cx="8229600" cy="30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Честа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манифестација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онгениталне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токсоплазмоз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огресивни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екротизирајући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етинитис</a:t>
            </a: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 (обострано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штећење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и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лепил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Најчешће се испољава у 2. или 3. деценији живо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Диф.дг.: ТБЦ, сифилис, лепра, очна хистоплазм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071360" y="142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ДИЈАГНОЗА</a:t>
            </a:r>
            <a:r>
              <a:rPr b="1" lang="sr-RS" sz="2400" spc="-1" strike="noStrike">
                <a:solidFill>
                  <a:srgbClr val="ffff00"/>
                </a:solidFill>
                <a:latin typeface="Tahoma"/>
              </a:rPr>
              <a:t> (није једноставна)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28760" y="149976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ЕПИДЕМИОЛОШКИ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ЛИНИЧКИ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ОДАЦИ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ИСУ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ОУЗДАН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ХИСТО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АТОЛОШКИ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МАТЕРИЈАЛ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бојење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ултивисање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нокулација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сетљивој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животињи</a:t>
            </a:r>
            <a:r>
              <a:rPr b="0" lang="sr-RS" sz="2000" spc="-1" strike="noStrike">
                <a:solidFill>
                  <a:srgbClr val="ffffff"/>
                </a:solidFill>
                <a:latin typeface="Tahoma"/>
              </a:rPr>
              <a:t> (најпоузданији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Tahoma"/>
              </a:rPr>
              <a:t>СЕРОЛОГИЈ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sr-RS" sz="20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i="1" lang="sr-Latn-CS" sz="2000" spc="-1" strike="noStrike">
                <a:solidFill>
                  <a:srgbClr val="ffffff"/>
                </a:solidFill>
                <a:latin typeface="Tahoma"/>
              </a:rPr>
              <a:t>SABIN-FELDMAN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sr-RS" sz="2000" spc="-1" strike="noStrike">
                <a:solidFill>
                  <a:srgbClr val="ffffff"/>
                </a:solidFill>
                <a:latin typeface="Tahoma"/>
              </a:rPr>
              <a:t>ов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Tahoma"/>
              </a:rPr>
              <a:t>тест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sr-RS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sr-Latn-RS" sz="2000" spc="-1" strike="noStrike">
                <a:solidFill>
                  <a:srgbClr val="ffffff"/>
                </a:solidFill>
                <a:latin typeface="Tahoma"/>
              </a:rPr>
              <a:t>dye test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sr-RS" sz="2000" spc="-1" strike="noStrike">
                <a:solidFill>
                  <a:srgbClr val="ffffff"/>
                </a:solidFill>
                <a:latin typeface="Tahoma"/>
              </a:rPr>
              <a:t>, тест бојењ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RS" sz="2000" spc="-1" strike="noStrike">
                <a:solidFill>
                  <a:srgbClr val="ffffff"/>
                </a:solidFill>
                <a:latin typeface="Tahoma"/>
              </a:rPr>
              <a:t>-Реакција везивања комплемен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RS" sz="2000" spc="-1" strike="noStrike">
                <a:solidFill>
                  <a:srgbClr val="ffffff"/>
                </a:solidFill>
                <a:latin typeface="Tahoma"/>
              </a:rPr>
              <a:t>-Т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ест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ндиректне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мунофлуоресценције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 (IgM, IgG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RS" sz="20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ELISA (IgM, IgG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99640" y="-17172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ТЕРАПИЈА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324000" y="1768320"/>
            <a:ext cx="8153280" cy="50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Благи облици (лимфогландуларни) код имунокопетентних→НЕ ТРЕБА ЛЕЧИТИ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Висцералне манифестације (тешке) у имунокомпетентних→2-4 месе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Акутне форме у имунодефицитарних→6 месеци и дуж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Хронични, латентни облици се не леч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1066320" y="692280"/>
            <a:ext cx="75438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ИРИМЕТАМИН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1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g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g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t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току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15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ана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том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0,5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g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g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t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још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15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УЛФАДИАЗИН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100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g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g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/24h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ве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озе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20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ана</a:t>
            </a: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 (уз На-бикарбонат, тбог кристализације у урину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ФОЛНА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ИСЕЛ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ОВАМИЦИН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3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r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/24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току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целе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трудноћ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ПИР</a:t>
            </a: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МИЦИН</a:t>
            </a: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 (није погодан за лечење енцефалитис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ОКСИТРОМИЦИН</a:t>
            </a: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,АЗИТРОМИЦИН, КЛАРИТРОМИЦИН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КЛИНДАМИЦИ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КОРТИКОСТЕРОИДИ-окуларни обли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Slide Number Placeholder 2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11AD6-5B98-41DB-96F3-28E2983C8AB4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1066320" y="765000"/>
            <a:ext cx="75438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Труднице са акутном инфекциј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пирамицин 3г/дневно-до краја трудноћ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кон 1. триместра→пириметамин, сулфадиазин (нарочито ако је потврђена дијагноза инфекције плода, пренатално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онгенитална инфекција, без клиничких симптома (након рођења)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Пириметамин 1мг/кг (свака 2 дана)+Сулфадиазин 100мг/кг (у две дозе)+Фолна кис. 5мг (на 2. дан)-21 да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Потом се наставља спирамицином или сулфадиазином до 6 месеци (ако нема знакова болести), а ако се развије кл. слика, до годину дан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21D8E-F400-4280-958E-BA10D7252CCA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74B50-2B1A-46A2-B87C-F70D9D470067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4" descr="F0000-012-001"/>
          <p:cNvPicPr/>
          <p:nvPr/>
        </p:nvPicPr>
        <p:blipFill>
          <a:blip r:embed="rId1"/>
          <a:srcRect l="0" t="0" r="0" b="6943"/>
          <a:stretch/>
        </p:blipFill>
        <p:spPr>
          <a:xfrm>
            <a:off x="2700360" y="189000"/>
            <a:ext cx="6264360" cy="615456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6"/>
          <p:cNvSpPr/>
          <p:nvPr/>
        </p:nvSpPr>
        <p:spPr>
          <a:xfrm>
            <a:off x="653760" y="620640"/>
            <a:ext cx="204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ff00"/>
                </a:solidFill>
                <a:latin typeface="Tahoma"/>
              </a:rPr>
              <a:t>Животни циклус </a:t>
            </a:r>
            <a:br>
              <a:rPr sz="1800"/>
            </a:br>
            <a:r>
              <a:rPr b="0" i="1" lang="sr-CS" sz="1800" spc="-1" strike="noStrike">
                <a:solidFill>
                  <a:srgbClr val="ffff00"/>
                </a:solidFill>
                <a:latin typeface="Tahoma"/>
              </a:rPr>
              <a:t>плазмодијум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2533D-E353-4631-8241-96B9B24BEC46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Text Box 4"/>
          <p:cNvSpPr/>
          <p:nvPr/>
        </p:nvSpPr>
        <p:spPr>
          <a:xfrm>
            <a:off x="861840" y="1844640"/>
            <a:ext cx="8282160" cy="25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ffff00"/>
                </a:solidFill>
                <a:latin typeface="Comic Sans MS"/>
              </a:rPr>
              <a:t>Инфективне</a:t>
            </a:r>
            <a:r>
              <a:rPr b="1" i="1" lang="en-US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i="1" lang="sr-Latn-CS" sz="3600" spc="-1" strike="noStrike">
                <a:solidFill>
                  <a:srgbClr val="ffff00"/>
                </a:solidFill>
                <a:latin typeface="Comic Sans MS"/>
              </a:rPr>
              <a:t>болест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i="1" lang="sr-Latn-CS" sz="2400" spc="-1" strike="noStrike">
                <a:solidFill>
                  <a:srgbClr val="ffff00"/>
                </a:solidFill>
                <a:latin typeface="Comic Sans MS"/>
              </a:rPr>
              <a:t>Предавање 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Comic Sans MS"/>
              </a:rPr>
              <a:t>ИНФЕКЦИЈЕ И</a:t>
            </a:r>
            <a:r>
              <a:rPr b="1" i="1" lang="sr-Latn-CS" sz="3600" spc="-1" strike="noStrike">
                <a:solidFill>
                  <a:srgbClr val="ffff00"/>
                </a:solidFill>
                <a:latin typeface="Comic Sans MS"/>
              </a:rPr>
              <a:t>ЗАЗВАНЕ РИКЕЦИЈАМА (RIKECIOZE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6C2BC-A816-481F-B022-C84C4512C257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Rectangle 5"/>
          <p:cNvSpPr/>
          <p:nvPr/>
        </p:nvSpPr>
        <p:spPr>
          <a:xfrm>
            <a:off x="1142280" y="1267560"/>
            <a:ext cx="524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00"/>
                </a:solidFill>
                <a:latin typeface="Tahoma"/>
              </a:rPr>
              <a:t>ПЕГАВИ ТИФУС </a:t>
            </a: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(TYPHUS EXANTHEMATICU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1187280" y="2133720"/>
            <a:ext cx="7632720" cy="37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Дефинициј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4600" indent="-174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4600" indent="-174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Пегави тифус је акутна, неконтагиозна, инфективна болест која се клинички карактерише општим симптомима инфекције, симптомима енцефалитис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(тифозним стањем) и макулозном оспо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4600" indent="-174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4600" indent="-174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Етиологиј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4600" indent="-174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4600" indent="-174600">
              <a:lnSpc>
                <a:spcPct val="12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Узрочник болести је </a:t>
            </a:r>
            <a:r>
              <a:rPr b="0" i="1" lang="sr-Latn-CS" sz="1800" spc="-1" strike="noStrike">
                <a:solidFill>
                  <a:srgbClr val="ffff99"/>
                </a:solidFill>
                <a:latin typeface="Tahoma"/>
              </a:rPr>
              <a:t>Rickettsia prowazekii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која се у сасушеном измету ваши може одржати више месец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4C214-685D-433E-ACF1-EAEF1020E1B1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Text Box 2"/>
          <p:cNvSpPr/>
          <p:nvPr/>
        </p:nvSpPr>
        <p:spPr>
          <a:xfrm>
            <a:off x="1042920" y="765000"/>
            <a:ext cx="7921800" cy="23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Епидемиологиј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извор инфекције је болесник који болује од пегавца или Брил-Цинсерове болести (заразан је последња 2 до 3 дана инкубације и све време трајања фебрилности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са оболелог на здравог човека болест преноси бала вашка 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(Pediculus humanis corporis),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која се зарази сишући крв болесник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1" name="Picture 3" descr="Piojo_de_la_ropa_Pediculus_humanos_corporis"/>
          <p:cNvPicPr/>
          <p:nvPr/>
        </p:nvPicPr>
        <p:blipFill>
          <a:blip r:embed="rId1"/>
          <a:stretch/>
        </p:blipFill>
        <p:spPr>
          <a:xfrm>
            <a:off x="1116000" y="3357720"/>
            <a:ext cx="3527280" cy="320184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4" descr="foto_025"/>
          <p:cNvPicPr/>
          <p:nvPr/>
        </p:nvPicPr>
        <p:blipFill>
          <a:blip r:embed="rId2"/>
          <a:stretch/>
        </p:blipFill>
        <p:spPr>
          <a:xfrm>
            <a:off x="5508720" y="3357720"/>
            <a:ext cx="2131920" cy="308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FA3F7-D386-4757-ADB9-66131C20DEA8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Text Box 2"/>
          <p:cNvSpPr/>
          <p:nvPr/>
        </p:nvSpPr>
        <p:spPr>
          <a:xfrm>
            <a:off x="1258920" y="1773360"/>
            <a:ext cx="7272360" cy="33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80000"/>
              </a:lnSpc>
              <a:spcAft>
                <a:spcPts val="1125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рикеција се настањује и размножава у епителним ћелијама црева, одакле столицом доспева у спољну средину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4600" indent="-174600">
              <a:lnSpc>
                <a:spcPct val="180000"/>
              </a:lnSpc>
              <a:spcAft>
                <a:spcPts val="1125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човек се инфицира утрљавањем измета у кожу (чешањем), ређе утрљавањем у коњунктиве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4600" indent="-174600">
              <a:lnSpc>
                <a:spcPct val="180000"/>
              </a:lnSpc>
              <a:spcAft>
                <a:spcPts val="1125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болест се јавља епидемично, у животним ситуацијама лоших санитарних услова када је вашљив велики број људ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DB65D-0A3A-47D4-B6ED-8BD1ECCE42C1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Text Box 2"/>
          <p:cNvSpPr/>
          <p:nvPr/>
        </p:nvSpPr>
        <p:spPr>
          <a:xfrm>
            <a:off x="1042920" y="1268280"/>
            <a:ext cx="7921800" cy="51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Патогенез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spcAft>
                <a:spcPts val="901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рикеције посебан афинитет показују ка 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ендотелним ћелијама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малих крвних судова (артериоле, капилари, венуле), где се размножавају, разарају ендотелне ћелије и доспевају у крвоток (рикецијемија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spcAft>
                <a:spcPts val="901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током рикецијемије настаје дисеминација узрочника до различитих ткива и органа у којима изазивају васкулитис; промене су најизраженије у кожи, мозгу, попречно-пругастој мускулатури, тестисима, срцу и бубрезим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spcAft>
                <a:spcPts val="901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око инфицираних крвних судова ствара се запаљенски инфилтрат (гранулом) састваљен од лимфоцита и моноцита (артериолитис грануломатоса, Френкелови чворићи); ови грануломи сужавају лумен малих крвних судова, што доводи до успоравања крвотока и појаве тромбоз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B5E9D-E55B-4EA5-9A3F-7FCF8BC56786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Text Box 3"/>
          <p:cNvSpPr/>
          <p:nvPr/>
        </p:nvSpPr>
        <p:spPr>
          <a:xfrm>
            <a:off x="1258920" y="1125360"/>
            <a:ext cx="720072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Клиничка сли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4600" indent="-17460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4600" indent="-174600">
              <a:lnSpc>
                <a:spcPct val="130000"/>
              </a:lnSpc>
              <a:spcBef>
                <a:spcPts val="1125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Инкубација износи 1 до 2 недеље (просечно 12 дана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4600" indent="-174600">
              <a:lnSpc>
                <a:spcPct val="130000"/>
              </a:lnSpc>
              <a:spcBef>
                <a:spcPts val="1125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Болест протиче кроз три стадијума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3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инвазивни стадијум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3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егзантематични (тифозни стадијум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3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реконвалесцентни стадију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217E0-41A4-468F-A55D-D226DC4C85A8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Text Box 2"/>
          <p:cNvSpPr/>
          <p:nvPr/>
        </p:nvSpPr>
        <p:spPr>
          <a:xfrm>
            <a:off x="1116000" y="1268280"/>
            <a:ext cx="7777080" cy="35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а</a:t>
            </a:r>
            <a:r>
              <a:rPr b="1" i="1" lang="sr-Latn-CS" sz="1800" spc="-1" strike="noStrike">
                <a:solidFill>
                  <a:srgbClr val="ffff00"/>
                </a:solidFill>
                <a:latin typeface="Tahoma"/>
              </a:rPr>
              <a:t>. Инвазивни стадију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30000"/>
              </a:lnSpc>
              <a:spcBef>
                <a:spcPts val="1125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болест почиње нагло са оптим симптомима инфекције: високом температуром, дрхтавицом, главобољом, мијалгијама и артралгијам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30000"/>
              </a:lnSpc>
              <a:spcBef>
                <a:spcPts val="1125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физикални налаз: лице је црвено и подбуло (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caput rubrum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), коњунктивална ињекција, језик је сув, обложен прљавосивим наслагама; на плућима бронхитични шушњеви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30000"/>
              </a:lnSpc>
              <a:spcBef>
                <a:spcPts val="1125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овај стадијум траје 5 до 7 дан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CDD53-075C-4552-923B-016A75A04085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Text Box 2"/>
          <p:cNvSpPr/>
          <p:nvPr/>
        </p:nvSpPr>
        <p:spPr>
          <a:xfrm>
            <a:off x="1116000" y="1268280"/>
            <a:ext cx="7850160" cy="54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ffff00"/>
                </a:solidFill>
                <a:latin typeface="Tahoma"/>
              </a:rPr>
              <a:t>б. Егзантематични стадијум (тифозни стадијум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spcAft>
                <a:spcPts val="1125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карактерише се појавом оспе, која избија у једном маху и која је најизраженија на флексорним странама руку и бочним деловима тела (оспа је макулозна, некада делимично петехијална, тј. никада све макуле не прелазе у петехије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spcAft>
                <a:spcPts val="1125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током овог стадијума јављају се симптоми од стране CNS-а: пацијент је узнемирен, дезоријентисан, често агресиван са халуцинацијама или је миран, апатичан, у прострацији и ступору (тифозно стање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spcAft>
                <a:spcPts val="1125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могу бити присутни и знаци пнеумоније, миокардитиса, нефритис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spcAft>
                <a:spcPts val="1125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спленомегалија је најизраженија почетком овог стадијума, касније нестаје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spcAft>
                <a:spcPts val="1125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овај стадијум траје 7 до 8 дан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B9BF7-A016-40D8-8A13-985B16CD3884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Text Box 2"/>
          <p:cNvSpPr/>
          <p:nvPr/>
        </p:nvSpPr>
        <p:spPr>
          <a:xfrm>
            <a:off x="1187280" y="1197000"/>
            <a:ext cx="7632720" cy="31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ffff00"/>
                </a:solidFill>
                <a:latin typeface="Tahoma"/>
              </a:rPr>
              <a:t>Реконвалесцентни стадију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4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у случају оздрављења опоравак је брз и без последиц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Компликациј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4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настају услед тромбозе крвних судова (у било ком органу и на акрима у смислу гангрене) и бактеријске суперинфекциј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1D527-520E-445F-8EC9-7B1C731E6B5F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Text Box 2"/>
          <p:cNvSpPr/>
          <p:nvPr/>
        </p:nvSpPr>
        <p:spPr>
          <a:xfrm>
            <a:off x="1116000" y="1197000"/>
            <a:ext cx="648036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Дијагноз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5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клиничка слик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5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епидемиолошки подаци (вашљивост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5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лабораторијске анализе (умерена леукоцитоза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7702D-26CB-4793-A10F-4C12136DD28C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5" descr="oocysts"/>
          <p:cNvPicPr/>
          <p:nvPr/>
        </p:nvPicPr>
        <p:blipFill>
          <a:blip r:embed="rId1"/>
          <a:srcRect l="0" t="6140" r="0" b="39916"/>
          <a:stretch/>
        </p:blipFill>
        <p:spPr>
          <a:xfrm>
            <a:off x="2627280" y="3591000"/>
            <a:ext cx="4176720" cy="2663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oocysts2"/>
          <p:cNvPicPr/>
          <p:nvPr/>
        </p:nvPicPr>
        <p:blipFill>
          <a:blip r:embed="rId2"/>
          <a:srcRect l="0" t="0" r="0" b="36183"/>
          <a:stretch/>
        </p:blipFill>
        <p:spPr>
          <a:xfrm>
            <a:off x="3348000" y="1052640"/>
            <a:ext cx="5400720" cy="22208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oocysts3"/>
          <p:cNvPicPr/>
          <p:nvPr/>
        </p:nvPicPr>
        <p:blipFill>
          <a:blip r:embed="rId3"/>
          <a:srcRect l="0" t="0" r="0" b="21856"/>
          <a:stretch/>
        </p:blipFill>
        <p:spPr>
          <a:xfrm>
            <a:off x="684360" y="1052640"/>
            <a:ext cx="2303280" cy="222084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8"/>
          <p:cNvSpPr/>
          <p:nvPr/>
        </p:nvSpPr>
        <p:spPr>
          <a:xfrm>
            <a:off x="1009440" y="404640"/>
            <a:ext cx="107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00"/>
                </a:solidFill>
                <a:latin typeface="Tahoma"/>
              </a:rPr>
              <a:t>Oocis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C2321-A860-470C-8179-00D342DC1AAA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Text Box 2"/>
          <p:cNvSpPr/>
          <p:nvPr/>
        </p:nvSpPr>
        <p:spPr>
          <a:xfrm>
            <a:off x="1042920" y="1197000"/>
            <a:ext cx="7632720" cy="46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2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ffff00"/>
                </a:solidFill>
                <a:latin typeface="Tahoma"/>
              </a:rPr>
              <a:t>Серолошке анализ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spcAft>
                <a:spcPts val="1125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Weil-Felix-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ова реакција аглутинације (proteus OX 19) – реакција је позитивна крајем прве и почетком друге недеље болести: дијагностички је значајан титар већи од 1:160, али је важнији четвороструки пораст титра антитела у два узорка серум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spcAft>
                <a:spcPts val="1125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реакција везивања комплемента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(RVK) са специфичним рикецијским антигеном, касније постаје позитивна, око 10 дана болести, а за дијагностичку динамику титра треба чекати бар три недеље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spcAft>
                <a:spcPts val="1125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индиректна имунофлуоресценција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(IIF) и 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имуноензимски тест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(ELISA) за откривање антитела на рикецију у IgM и IgG клас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23114-2BBC-49D1-885D-8FBD240F8257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Text Box 2"/>
          <p:cNvSpPr/>
          <p:nvPr/>
        </p:nvSpPr>
        <p:spPr>
          <a:xfrm>
            <a:off x="1258920" y="1052640"/>
            <a:ext cx="7489800" cy="49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Терапиј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6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Тетрациклини (доксициклин 2x100mg),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24-48 сати након губитка фебрилно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6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Хлорамфеникол (30mg/kg у 4 једнаке дозе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6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Симптоматска терапиј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Профилакс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6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борба против вашљивости (депедикулација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6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постоји вакцина од атенуиране 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R. prowazekii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E6847-A665-4943-8E62-6F80CA32D773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Rectangle 2"/>
          <p:cNvSpPr/>
          <p:nvPr/>
        </p:nvSpPr>
        <p:spPr>
          <a:xfrm>
            <a:off x="1455120" y="892800"/>
            <a:ext cx="360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ffff00"/>
                </a:solidFill>
                <a:latin typeface="Tahoma"/>
              </a:rPr>
              <a:t>BRIL – ZINSSEROVA</a:t>
            </a:r>
            <a:r>
              <a:rPr b="1" lang="sr-Latn-CS" sz="20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1" lang="sr-CS" sz="2000" spc="-1" strike="noStrike">
                <a:solidFill>
                  <a:srgbClr val="ffff00"/>
                </a:solidFill>
                <a:latin typeface="Tahoma"/>
              </a:rPr>
              <a:t>БОЛЕС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Text Box 3"/>
          <p:cNvSpPr/>
          <p:nvPr/>
        </p:nvSpPr>
        <p:spPr>
          <a:xfrm>
            <a:off x="1258920" y="2205000"/>
            <a:ext cx="748980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Дефинициј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Брил-Цинсерова болест је касни рецидив пегавца, а јавља се више година након прележане болест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8C9F7-31F7-468B-9C96-38868BAB37F9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Text Box 2"/>
          <p:cNvSpPr/>
          <p:nvPr/>
        </p:nvSpPr>
        <p:spPr>
          <a:xfrm>
            <a:off x="1187280" y="1052640"/>
            <a:ext cx="7561440" cy="30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Етиологија и епидемиологиј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8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болест се јавља спорадично у свим крајевима света у којима је накада било пегавца или га још увек им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8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болесник са 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Brill-Zinsser-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овом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болешћу може бити извор инфекције пегавца уколико истовремено постоји вашљивост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7619F-DCB6-4F59-B73C-F846F0DFC953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Text Box 2"/>
          <p:cNvSpPr/>
          <p:nvPr/>
        </p:nvSpPr>
        <p:spPr>
          <a:xfrm>
            <a:off x="1116000" y="1197000"/>
            <a:ext cx="763272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Патогенез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3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након прележаног пегавца, рикеције се задржавају у организму у латентном стању, а могу се активирати уколико ослабе имунске снаге организм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Клиничка сли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3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болест протиче као лакши облик пегавца (траје 7-11 дана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207DA-FA4C-404A-8AF2-17BFEDCBB56E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Text Box 2"/>
          <p:cNvSpPr/>
          <p:nvPr/>
        </p:nvSpPr>
        <p:spPr>
          <a:xfrm>
            <a:off x="1187280" y="1197000"/>
            <a:ext cx="7561440" cy="27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Дијагности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4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RVK (рано постаје позитивна - око 5 дана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Терапиј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4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Brill-Zinsser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ова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болест се лечи као и пегавац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90DA2-DEE6-4E32-BC36-198B6EFE2F9C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Rectangle 2"/>
          <p:cNvSpPr/>
          <p:nvPr/>
        </p:nvSpPr>
        <p:spPr>
          <a:xfrm>
            <a:off x="1560240" y="691200"/>
            <a:ext cx="344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Tahoma"/>
              </a:rPr>
              <a:t>КЈУ  ГРОЗНИЦА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/ Q FEV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Text Box 3"/>
          <p:cNvSpPr/>
          <p:nvPr/>
        </p:nvSpPr>
        <p:spPr>
          <a:xfrm>
            <a:off x="1187280" y="2060640"/>
            <a:ext cx="748836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Дефинициј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Кју грозница (у англосаксонској литератури „Q fever“) је акутно инфективно обољење, које најчешће протиче под сликом атипичне пнеумониј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6DACF-350F-4908-A27B-1F87D1363959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Text Box 2"/>
          <p:cNvSpPr/>
          <p:nvPr/>
        </p:nvSpPr>
        <p:spPr>
          <a:xfrm>
            <a:off x="1116000" y="1052640"/>
            <a:ext cx="7777080" cy="38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Етиологиј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7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узрочник болести је 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Coxiella burneti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 која припада породици рикециј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7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у сувој средини прави споре, тако да може да преживи више месеци у спољној средини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7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патогена је за људе, сматра се да је један микроорганизам довољан да изазове болест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FB7EC-98D0-4318-8566-A9D5DD63129A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Text Box 2"/>
          <p:cNvSpPr/>
          <p:nvPr/>
        </p:nvSpPr>
        <p:spPr>
          <a:xfrm>
            <a:off x="1187280" y="1341360"/>
            <a:ext cx="720108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Епидемиологиј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30000"/>
              </a:lnSpc>
              <a:spcAft>
                <a:spcPts val="1125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Кју грозница је класична зооноза, извор инфекције су оболеле животиње (овце, говеда, козе) које излучују коксијелу столицом, мокраћом и млеком, нарочито током окот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30000"/>
              </a:lnSpc>
              <a:spcAft>
                <a:spcPts val="1125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човек се углавом зарази удисањем прашине у којој се налазе рикеције, ређе конзумирањем млека или убодом зараженог крпеља (интерхумани пренос је реткост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30000"/>
              </a:lnSpc>
              <a:spcAft>
                <a:spcPts val="1125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болест се појављује спорадично или у епидемијама, најчешће у пролећ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5C671-45C2-4F5F-B1B8-1331FBC7757A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Text Box 2"/>
          <p:cNvSpPr/>
          <p:nvPr/>
        </p:nvSpPr>
        <p:spPr>
          <a:xfrm>
            <a:off x="1042920" y="1125360"/>
            <a:ext cx="7850160" cy="49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2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Патогенез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spcAft>
                <a:spcPts val="1125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након удисања контаминираног аеросола 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C. burnetii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 доспева у плућа где се размножава у алвеоларним макрофагима; потом долази до продора у крв и њене дисеминације до различитих органа (системска болест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spcAft>
                <a:spcPts val="1125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узрочник се осим у плућима може наћи у крви, плеуралном изливу, ликвору, перикарду, ендокарду, јетри, слезини и бубрегу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spcAft>
                <a:spcPts val="1125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плућни инфилтрати се првенствено налазе у интерстицијуму (састоје се од макрофага, лимфоцита и плазма ћелија), а сличне запаљенске промене, у облику грануломатозних жаришта се могу наћи и у другим органима као што су јетра, слезина, срце, мозак, тестиси и бубрез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2T07:23:49Z</dcterms:created>
  <dc:creator>Dragan Adamovic</dc:creator>
  <dc:description/>
  <dc:language>en-US</dc:language>
  <cp:lastModifiedBy>Predrag Canovic</cp:lastModifiedBy>
  <dcterms:modified xsi:type="dcterms:W3CDTF">2023-02-02T23:12:54Z</dcterms:modified>
  <cp:revision>213</cp:revision>
  <dc:subject/>
  <dc:title>Slide 1</dc:title>
</cp:coreProperties>
</file>